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A05-EC35-4403-9D2F-D1F743B1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6C6-5455-4322-A952-97DF471D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FEC-4C5E-4C5A-BA22-661AA67C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B3B-458E-477F-8E0A-98F1EFE8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A988-2DB5-43C2-BA94-D338C2D7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13D0-6EA6-48C8-BC3C-C1D79A54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94D1-7884-44C5-9D36-2CD6A526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6A02-2BD4-48A5-AFF8-57EF7A8F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A2B3-30A2-459A-A498-4B9B72B0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63C5-BB79-466A-8431-FAD44CAE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3818-EC71-4A6A-A92B-6B04BB9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022-8BC8-43D9-9C7B-32CB9630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7BAF-65EB-430C-9B50-1D590289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E627-4349-4062-BD47-0596AEB6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1DD0-8F3D-4E3F-AFF6-B88890C2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B465-1DDF-4DDF-B6E5-584B0079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DF18-D7EB-4017-89E7-CACA0CF9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3B2C-3BF0-433D-949B-D3F517AE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12CB-D501-48E0-B385-79498941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E6B89-DE3C-468D-AEC4-341E6342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C7171-2132-41A6-A0C5-51973FE4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35293-F93A-4BC8-8130-1CFF70F1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56B-3736-4902-99E3-71AB3ECA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3BEB-0C41-4777-9B71-1522B593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E0E4-7357-41DA-BC28-27F8B49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91C4-4C03-4C52-A267-CE176C61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77F3-8018-43DC-92A3-C4C56E97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A1D2-C94D-4052-804F-C35A1CA5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CD25F-5701-4859-BB7C-C8ECD4BF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D791-FA13-447E-B42B-3BDC01AD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A62F-B6CE-41B6-A862-5BF4EF9D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52F9-D472-4808-8889-7CA9446A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473B5-FAE3-4B56-9A4D-23532A09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884-B9FE-4567-8B56-0719BAB2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4F038-0334-47A9-826E-7684CBB7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5A44F-EA02-4637-BB5D-C6C3EE1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4F87C-A6FA-401D-BC41-A5B670A8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17698-AE11-4119-8C68-B1C0E0E9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713FE-8C32-4B0C-A5E6-26B11E6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66AF-997B-49A9-9697-CA615EDC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8DB38-6E15-4479-93D3-DE6450C9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25B6-E978-44AB-921C-ACC3106C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996B-0CD4-4EB2-A287-B0B0F48C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E50C9-7A18-431A-950C-3B323183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C88-4F01-49D2-831B-F47BD04F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0F07C-C1F0-42DB-B406-A5844327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28540-4718-427D-B044-23BEA9DE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5AC6F-0FED-483E-957D-B01D6BB0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07AD8-13BF-4915-91A5-B26AFBD1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03F24-00AD-4F17-AA49-038BD6C6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6F25E-228A-4868-954C-98A03DC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61A96-1A96-49A1-9E16-DF39F038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DD11-C3A2-4A4D-9DBD-EC07F102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3AEB9-ADBE-42C0-B471-EAEC412D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59938-E540-4EAE-A90C-8E6DBF38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F58-B5B2-474C-9688-6ADECF54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58E8C-4FAE-4C08-A5D8-7703EA69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A0EE7-F3D6-47AC-921A-91112178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6E039-87FA-461A-BFB0-D99E54A8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4BA63-C31A-4BB0-A3D6-11F00FB6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844E0-B962-46F8-B65D-BFA6BD2F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7D6E8-6E6D-4CF7-8F40-EBA12C82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65086-24D6-4BE1-B376-B90A6DB3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2D3DA-D5F3-4C04-9FBD-8C8E2A5D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E9941-BCC0-4E25-8720-40F49FD8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A1150-356F-4C55-BC61-0B244FB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1CE-EFD7-412C-8893-C83ED918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B703B-D94D-4C93-9A46-1D4948CD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1773-38A3-4A01-9141-1F43036F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AA46D-E821-4872-B6E6-D9985767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DE4A9-F355-4767-ADFF-480BDC58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A7C70-CCB6-49F9-BE01-BC0FD295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B98D9-7EA6-477C-AEA1-F1534F92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DA856-4389-4CD4-A51E-5133A482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9AA2D-3F30-4965-9C63-7D5A91E2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39EF6-E316-4BA7-8514-CE648F6E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D0259-6ACA-4218-BB25-4BFE382B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F52-F6AA-402D-A1DA-3A0A7F1F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F1F2-639C-484C-B474-5A82C628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A2C83-46D1-4DFC-A13F-E532BD73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5763A-37EA-424D-8625-6522329F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72EC5-6D2F-4A81-B7CA-B071711F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009E3-A436-4785-AA03-7BE74723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FC9-6D43-4C68-8B76-6B8BBA0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0744-5F7B-4C97-A23F-D11468D978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BEE3-3B45-4D2F-BBB0-EEACA3E07F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8BAE-1A74-4350-8258-BBCFF8918C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7708-98E2-4BCA-8C71-0B63D1F6E59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A3C5-E31C-4555-A5A7-C26691A8EA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9981-3223-4CA0-8E26-39BBB1577A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3880-6262-4B1A-A544-4359BAD0E6C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Заголовок 3"/>
          <p:cNvSpPr/>
          <p:nvPr/>
        </p:nvSpPr>
        <p:spPr>
          <a:xfrm>
            <a:off x="179280" y="0"/>
            <a:ext cx="8780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Arial"/>
                <a:ea typeface="Arial"/>
              </a:rPr>
              <a:t>Параллельные циклы</a:t>
            </a:r>
            <a:r>
              <a:rPr b="1" lang="en-US" sz="3900" spc="-1" strike="noStrike">
                <a:solidFill>
                  <a:srgbClr val="572314"/>
                </a:solidFill>
                <a:latin typeface="Arial"/>
                <a:ea typeface="Arial"/>
              </a:rPr>
              <a:t>.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Arial"/>
                <a:ea typeface="Arial"/>
              </a:rPr>
              <a:t>Директива </a:t>
            </a:r>
            <a:r>
              <a:rPr b="1" lang="en-US" sz="3900" spc="-1" strike="noStrike">
                <a:solidFill>
                  <a:srgbClr val="572314"/>
                </a:solidFill>
                <a:latin typeface="Arial"/>
                <a:ea typeface="Arial"/>
              </a:rPr>
              <a:t>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одзаголовок 4"/>
          <p:cNvSpPr/>
          <p:nvPr/>
        </p:nvSpPr>
        <p:spPr>
          <a:xfrm>
            <a:off x="971640" y="1052640"/>
            <a:ext cx="79880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Синтакси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ff"/>
                </a:solidFill>
                <a:latin typeface="Corbel"/>
                <a:ea typeface="Arial"/>
              </a:rPr>
              <a:t>#</a:t>
            </a: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pragma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omp for</a:t>
            </a: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[опция [[,] опция]...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&lt;структурный блок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Эта директива относится к следующему за данной директивой блоку, включающему оператор цикла </a:t>
            </a: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, который должен удовлетворять ряду огранич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Главное ограничение состоит в том, что заголовок цикла должен выгляде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ff"/>
                </a:solidFill>
                <a:latin typeface="Corbel"/>
                <a:ea typeface="Arial"/>
              </a:rPr>
              <a:t>for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[целочисленный тип] i = инвариант цик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i {&lt;,&gt;,=,&lt;=,&gt;=} инвариант цик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i {+,-}= инвариант цикла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Если директива параллельного выполнения стоит перед гнездом циклов, завершающихся одним оператором, то директива воздействует только на самый внешний цик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Заголовок 3"/>
          <p:cNvSpPr/>
          <p:nvPr/>
        </p:nvSpPr>
        <p:spPr>
          <a:xfrm>
            <a:off x="395280" y="71280"/>
            <a:ext cx="8564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Arial"/>
              </a:rPr>
              <a:t>Опции директивы 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одзаголовок 4"/>
          <p:cNvSpPr/>
          <p:nvPr/>
        </p:nvSpPr>
        <p:spPr>
          <a:xfrm>
            <a:off x="971640" y="692280"/>
            <a:ext cx="81723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or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Эта опция, указывает компилятору, что в теле цикла могут встречаться директивы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omp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ordered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. С помощью таких директив внутри тела цикла определяют блоки, которые должны выполняться именно в том порядке, в котором итерации выполняются в последовательном цикл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В версии стандарта 3.0 появилась еще одна оп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collapse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( n )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которая указывает компилятору, что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последовательных тесно вложенных циклов ассоциируется с данной директив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#pragma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omp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parallel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for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collapse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 2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for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 </a:t>
            </a: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i = 0; i &lt; N; i +=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   </a:t>
            </a: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for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 </a:t>
            </a: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j = 0; j &lt; M; j +=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      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Для этих циклов образуется общее пространство итераций, которое делится между поток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for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 </a:t>
            </a: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ij = 0; ij &lt; N * M; ij +=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  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Если опция </a:t>
            </a: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collapse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не задана, то директива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относится только к одному непосредственно следующему за ней цикл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Заголовок 3"/>
          <p:cNvSpPr/>
          <p:nvPr/>
        </p:nvSpPr>
        <p:spPr>
          <a:xfrm>
            <a:off x="324000" y="144360"/>
            <a:ext cx="8635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  <a:ea typeface="Arial"/>
              </a:rPr>
              <a:t>Параллельная пузырьковая сортир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одзаголовок 4"/>
          <p:cNvSpPr/>
          <p:nvPr/>
        </p:nvSpPr>
        <p:spPr>
          <a:xfrm>
            <a:off x="971640" y="981000"/>
            <a:ext cx="81723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080" indent="350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Алгоритм  пузырьковой  сортировки  в  прямом  виде  не может быть распараллелен, потому что на каждой последующей итерации цикла используется результат предыдущей. Для  параллельной сортировки  обычно  используется модификация, известная  в  литературе  как  метод  чет-нечетной  перестановки (odd-even transposi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350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Суть  модификации  состоит  в  том,  что  в  алгоритм  сортировки  вводятся  два  разных правила  выполнения  итераций  метода –  в  зависимости  от  четности  или  нечетности  номера  итерации сортировки  для  обработки  берутся  элементы  с  четными  или  нечетными  индексами  соответственно, их сравнение  всегда  осуществляется  с  правыми  соседними  элементами масси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350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Таким образом, на всех нечетных итерациях сравниваются па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350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(1, 2), (3, 4), ..., (n-1,n) при нечетном 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350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а на четных итерациях обрабатываются элемен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350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(0, 1), (2, 3), ..., (n-2,n-1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350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После  n-кратного  повторения  итераций  сортировки  исходный  набор  данных  оказывается упорядочен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Заголовок 3"/>
          <p:cNvSpPr/>
          <p:nvPr/>
        </p:nvSpPr>
        <p:spPr>
          <a:xfrm>
            <a:off x="250920" y="144360"/>
            <a:ext cx="87087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  <a:ea typeface="Arial"/>
              </a:rPr>
              <a:t>Параллельная пузырьковая сортир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одзаголовок 4"/>
          <p:cNvSpPr/>
          <p:nvPr/>
        </p:nvSpPr>
        <p:spPr>
          <a:xfrm>
            <a:off x="1042920" y="981000"/>
            <a:ext cx="8101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00ff"/>
                </a:solidFill>
                <a:latin typeface="Gill Sans MT"/>
                <a:ea typeface="Arial"/>
              </a:rPr>
              <a:t>#define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compExch( x, y ) </a:t>
            </a:r>
            <a:r>
              <a:rPr b="0" i="1" sz="2200" spc="-1" strike="noStrike">
                <a:solidFill>
                  <a:srgbClr val="0000ff"/>
                </a:solidFill>
                <a:latin typeface="Gill Sans MT"/>
                <a:ea typeface="Arial"/>
              </a:rPr>
              <a:t>if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 x &gt; y ){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mp=x;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x=y;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y=tmp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Gill Sans MT"/>
                <a:ea typeface="Arial"/>
              </a:rPr>
              <a:t>#define</a:t>
            </a:r>
            <a:r>
              <a:rPr b="0" i="1" lang="en-US" sz="2200" spc="-1" strike="noStrike">
                <a:solidFill>
                  <a:srgbClr val="0070c0"/>
                </a:solidFill>
                <a:latin typeface="Gill Sans MT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SIZE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Gill Sans MT"/>
                <a:ea typeface="Arial"/>
              </a:rPr>
              <a:t>double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arrayX[ SIZE ]  = …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;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Gill Sans MT"/>
                <a:ea typeface="Arial"/>
              </a:rPr>
              <a:t>int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tmp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Gill Sans MT"/>
                <a:ea typeface="Arial"/>
              </a:rPr>
              <a:t>for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( </a:t>
            </a:r>
            <a:r>
              <a:rPr b="0" i="1" sz="2200" spc="-1" strike="noStrike">
                <a:solidFill>
                  <a:srgbClr val="0000ff"/>
                </a:solidFill>
                <a:latin typeface="Gill Sans MT"/>
                <a:ea typeface="Arial"/>
              </a:rPr>
              <a:t>int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i = 0; i &lt; SIZE; i++ ) {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Gill Sans MT"/>
                <a:ea typeface="Arial"/>
              </a:rPr>
              <a:t>if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( i % 2 == 0) </a:t>
            </a:r>
            <a:r>
              <a:rPr b="0" i="1" sz="2200" spc="-1" strike="noStrike">
                <a:solidFill>
                  <a:srgbClr val="008000"/>
                </a:solidFill>
                <a:latin typeface="Gill Sans MT"/>
                <a:ea typeface="Arial"/>
              </a:rPr>
              <a:t>// </a:t>
            </a:r>
            <a:r>
              <a:rPr b="0" i="1" lang="ru-RU" sz="2200" spc="-1" strike="noStrike">
                <a:solidFill>
                  <a:srgbClr val="008000"/>
                </a:solidFill>
                <a:latin typeface="Corbel"/>
                <a:ea typeface="Arial"/>
              </a:rPr>
              <a:t>четная итерация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Gill Sans MT"/>
                <a:ea typeface="Arial"/>
              </a:rPr>
              <a:t>#pragma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ff0000"/>
                </a:solidFill>
                <a:latin typeface="Gill Sans MT"/>
                <a:ea typeface="Arial"/>
              </a:rPr>
              <a:t>omp parallel for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private( tmp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Gill Sans MT"/>
                <a:ea typeface="Arial"/>
              </a:rPr>
              <a:t>for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( </a:t>
            </a:r>
            <a:r>
              <a:rPr b="0" i="1" sz="2200" spc="-1" strike="noStrike">
                <a:solidFill>
                  <a:srgbClr val="0000ff"/>
                </a:solidFill>
                <a:latin typeface="Gill Sans MT"/>
                <a:ea typeface="Arial"/>
              </a:rPr>
              <a:t>int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j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=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 0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; j &lt; SIZE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 - 1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; j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+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= 2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) 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637f26"/>
                </a:solidFill>
                <a:latin typeface="Corbel"/>
                <a:ea typeface="Arial"/>
              </a:rPr>
              <a:t>// (0,1) (2,3) (4,5)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compExch( arrayX[ j ], arrayX[ j + 1 ] 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Gill Sans MT"/>
                <a:ea typeface="Arial"/>
              </a:rPr>
              <a:t>else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         </a:t>
            </a:r>
            <a:r>
              <a:rPr b="0" i="1" sz="2200" spc="-1" strike="noStrike">
                <a:solidFill>
                  <a:srgbClr val="008000"/>
                </a:solidFill>
                <a:latin typeface="Gill Sans MT"/>
                <a:ea typeface="Arial"/>
              </a:rPr>
              <a:t>// </a:t>
            </a:r>
            <a:r>
              <a:rPr b="0" i="1" lang="ru-RU" sz="2200" spc="-1" strike="noStrike">
                <a:solidFill>
                  <a:srgbClr val="008000"/>
                </a:solidFill>
                <a:latin typeface="Corbel"/>
                <a:ea typeface="Arial"/>
              </a:rPr>
              <a:t>нечетная итер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Gill Sans MT"/>
                <a:ea typeface="Arial"/>
              </a:rPr>
              <a:t>#pragma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ff0000"/>
                </a:solidFill>
                <a:latin typeface="Gill Sans MT"/>
                <a:ea typeface="Arial"/>
              </a:rPr>
              <a:t>omp parallel for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private( tmp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Gill Sans MT"/>
                <a:ea typeface="Arial"/>
              </a:rPr>
              <a:t>for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( </a:t>
            </a:r>
            <a:r>
              <a:rPr b="0" i="1" sz="2200" spc="-1" strike="noStrike">
                <a:solidFill>
                  <a:srgbClr val="0000ff"/>
                </a:solidFill>
                <a:latin typeface="Gill Sans MT"/>
                <a:ea typeface="Arial"/>
              </a:rPr>
              <a:t>int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j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=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 1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; j &lt; SIZE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 - 1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; j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+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= 2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) 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637f26"/>
                </a:solidFill>
                <a:latin typeface="Corbel"/>
                <a:ea typeface="Arial"/>
              </a:rPr>
              <a:t>// (1,2) (3,4) (5,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   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compExch(arrayX[  j ], arrayX[ j +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 1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] 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Заголовок 3"/>
          <p:cNvSpPr/>
          <p:nvPr/>
        </p:nvSpPr>
        <p:spPr>
          <a:xfrm>
            <a:off x="1187280" y="71280"/>
            <a:ext cx="77724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Задачи (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43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лько начиная с версии 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одзаголовок 4"/>
          <p:cNvSpPr/>
          <p:nvPr/>
        </p:nvSpPr>
        <p:spPr>
          <a:xfrm>
            <a:off x="1042920" y="1125360"/>
            <a:ext cx="81010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#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ag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mp task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[опция [[,] опция]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ured block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с 3-й верс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M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й параллелизм (это директивы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arall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arall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ectio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реализуется в виде «задач», назначаемых поток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яющей систем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M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 помощью директивы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й структурный блок внутри параллельного региона можно объявить как задачу, которая добавляется к списку задач этого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лярное выражени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ivat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исок переменн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firstprivat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исок переменн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hare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еремен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defaul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o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untie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чает, что в случае откладывания задача может быть продолжена любым потоком из тех, которые выполняют данную параллельную обл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эта опция не указана, то задача может быть выполнена только породившим ее пото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Заголовок 3"/>
          <p:cNvSpPr/>
          <p:nvPr/>
        </p:nvSpPr>
        <p:spPr>
          <a:xfrm>
            <a:off x="1187280" y="71280"/>
            <a:ext cx="77724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пользования директив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одзаголовок 4"/>
          <p:cNvSpPr/>
          <p:nvPr/>
        </p:nvSpPr>
        <p:spPr>
          <a:xfrm>
            <a:off x="995400" y="1079640"/>
            <a:ext cx="8280360" cy="58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node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{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node *left;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node *right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aType data;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};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200"/>
            </a:b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exter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process(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node * );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200"/>
            </a:b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traverse( 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node *p )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{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   if (p-&gt;left) </a:t>
            </a:r>
            <a:br>
              <a:rPr sz="2200"/>
            </a:br>
            <a:r>
              <a:rPr b="0" i="1" lang="ru-RU" sz="2200" spc="-1" strike="noStrike">
                <a:solidFill>
                  <a:srgbClr val="0033cc"/>
                </a:solidFill>
                <a:latin typeface="Arial"/>
              </a:rPr>
              <a:t>#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mp task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rstprivate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) unt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raverse(p-&gt;left);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   if (p-&gt;right) </a:t>
            </a:r>
            <a:br>
              <a:rPr sz="2200"/>
            </a:br>
            <a:r>
              <a:rPr b="0" i="1" lang="ru-RU" sz="2200" spc="-1" strike="noStrike">
                <a:solidFill>
                  <a:srgbClr val="0033cc"/>
                </a:solidFill>
                <a:latin typeface="Arial"/>
              </a:rPr>
              <a:t>#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mp task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rstprivate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) untied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traverse(p-&gt;right);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#pragma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mp taskwait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    process(p); 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//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</a:rPr>
              <a:t>обработка данных 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data 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</a:rPr>
              <a:t>текущего узла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Заголовок 3"/>
          <p:cNvSpPr/>
          <p:nvPr/>
        </p:nvSpPr>
        <p:spPr>
          <a:xfrm>
            <a:off x="1187280" y="71280"/>
            <a:ext cx="77724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Директивы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askwait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askyel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дзаголовок 4"/>
          <p:cNvSpPr/>
          <p:nvPr/>
        </p:nvSpPr>
        <p:spPr>
          <a:xfrm>
            <a:off x="995400" y="1197000"/>
            <a:ext cx="82566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#pragm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om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taskwa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, выполнивший эту директиву, приостанавливается до тех пор, пока не будут завершены все ранее запущенные им независимые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как написано в примере, эта директива присутствует перед вызовом функци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гарантирует, что и левое и правое поддерево будут полностью обработаны до обработки корня (но последовательность «левое-правое» или «правое-левое» останется непредсказуе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#pragm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om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task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ива taskyield указывает, что текущая задача может быть приостановлена в пользу выполнения други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Заголовок 3"/>
          <p:cNvSpPr/>
          <p:nvPr/>
        </p:nvSpPr>
        <p:spPr>
          <a:xfrm>
            <a:off x="1187280" y="71280"/>
            <a:ext cx="77724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па директив синхр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одзаголовок 4"/>
          <p:cNvSpPr/>
          <p:nvPr/>
        </p:nvSpPr>
        <p:spPr>
          <a:xfrm>
            <a:off x="1042920" y="1125360"/>
            <a:ext cx="81010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нхронизация работы потоков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nM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ет выполняться и явно и нея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явная синхронизация выполняется в конце любой параллельной области при условии, что в момент создания этой области не была указана опция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wa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некоторых случаях программисту может потребоваться явно указать необходимость остановки всех или некоторых потоков программы вплоть до момента наступления ожидаемого собы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арьерная синхр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ый распространенный способ синхронизации в OpenMP – барье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#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prag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mp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Заголовок 3"/>
          <p:cNvSpPr/>
          <p:nvPr/>
        </p:nvSpPr>
        <p:spPr>
          <a:xfrm>
            <a:off x="1187280" y="71280"/>
            <a:ext cx="77724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Директива </a:t>
            </a:r>
            <a:r>
              <a:rPr b="1" i="1" lang="en-US" sz="4300" spc="-1" strike="noStrike">
                <a:solidFill>
                  <a:srgbClr val="ff0000"/>
                </a:solidFill>
                <a:latin typeface="Arial"/>
              </a:rPr>
              <a:t>ordere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одзаголовок 4"/>
          <p:cNvSpPr/>
          <p:nvPr/>
        </p:nvSpPr>
        <p:spPr>
          <a:xfrm>
            <a:off x="1042920" y="1125360"/>
            <a:ext cx="81010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нтакси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#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 or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лок операторов, выделяемых этой директивой, обычно относится к самому последнему из нескольких операторов, вложенных в распараллеливаемый цик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#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 parallel for or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fo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 … 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fo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 … 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//объемные вы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fo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 … 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//объемные вы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#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 or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fo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 … 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запись результатов в фай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Заголовок 3"/>
          <p:cNvSpPr/>
          <p:nvPr/>
        </p:nvSpPr>
        <p:spPr>
          <a:xfrm>
            <a:off x="1187280" y="-712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Директива </a:t>
            </a:r>
            <a:r>
              <a:rPr b="1" i="1" lang="en-US" sz="4300" spc="-1" strike="noStrike">
                <a:solidFill>
                  <a:srgbClr val="ff0000"/>
                </a:solidFill>
                <a:latin typeface="Arial"/>
              </a:rPr>
              <a:t>flush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одзаголовок 4"/>
          <p:cNvSpPr/>
          <p:nvPr/>
        </p:nvSpPr>
        <p:spPr>
          <a:xfrm>
            <a:off x="1042920" y="785880"/>
            <a:ext cx="810108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нтакси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#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 flush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[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исок переменных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выполнении данной директив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начения всех переменных (или переменных из списка, если он задан), временно хранящиеся в регистрах и кэш-памяти текущего потока, будут записаны в основную памя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се изменения переменных, сделанные потоком во время работы, станут видимы остальным потока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Эти операции производятся только с данными вызвавшего директиву потока. Данные, изменявшиеся другими потоками, не затрагивают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скольку выполнение данной директивы в полном объёме может повлечь значительных накладных расходов, а в данный момент может быть нужна гарантия согласованного представления не всех, а лишь отдельных переменных, то эти переменные можно явно перечислить в директиве спис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ива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lu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явным обра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тся при  завершении директив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barr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crit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s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sing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Заголовок 3"/>
          <p:cNvSpPr/>
          <p:nvPr/>
        </p:nvSpPr>
        <p:spPr>
          <a:xfrm>
            <a:off x="1187280" y="7128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тические с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одзаголовок 4"/>
          <p:cNvSpPr/>
          <p:nvPr/>
        </p:nvSpPr>
        <p:spPr>
          <a:xfrm>
            <a:off x="1042920" y="785880"/>
            <a:ext cx="810108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нтакси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#pragma 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omp critical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[(&lt;имя_критической_секции&gt;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ый блок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каждый момент времени в одной критической секции может находиться не более одного пото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сли критическая секция уже выполняется каким-либо потоком, то все другие потоки, дошедшие до выполнения этой директивы для секции с данным именем, будут заблокированы, пока вошедший в секцию поток не закончит выполнение структурного блока. Как только этот поток выйдет из критической секции, один из ожидающих потоков войдет в неё. Если входа в критическую секцию ожидало несколько потоков, то выбирается один из них (неважно, как). Остальные будут по-прежнему заблокиров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се неименованные секции рассматриваются как одна, даже если они находятся в разных параллельных регион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очно так же, все критические секции, имеющие одно и тоже имя, рассматриваются как одна секция, даже если они находятся в разных параллельных регион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бочные входы и выходы из критической секции (ее структурного блока) запреще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Заголовок 3"/>
          <p:cNvSpPr/>
          <p:nvPr/>
        </p:nvSpPr>
        <p:spPr>
          <a:xfrm>
            <a:off x="179280" y="-100080"/>
            <a:ext cx="8780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Arial"/>
              </a:rPr>
              <a:t>Дополнительные требования к распараллеливаемому циклу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одзаголовок 4"/>
          <p:cNvSpPr/>
          <p:nvPr/>
        </p:nvSpPr>
        <p:spPr>
          <a:xfrm>
            <a:off x="971640" y="981000"/>
            <a:ext cx="81723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Кроме того, должны выполняться следующие требова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Corbel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Корректная программа не должна зависеть от того, какой именно поток какую именно итерацию параллельного цикла выполни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Corbel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Нельзя использовать побочный выход из параллельного цикла (операторы </a:t>
            </a: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goto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, </a:t>
            </a: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break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Corbel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Размер блока итераций, указанный в опции </a:t>
            </a: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директивы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(если эта опция указана), не должен изменяться в рамках цик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Corbel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Итеративная переменная распределяемого цикла по смыслу должна быть локальной, поэтому в том случае, если она специфицирована в качестве общей переменной, то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неявно делается локальн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й при входе в цикл. После завершения цикла значение итеративной переменной цикла не определено, если она не указана в опции </a:t>
            </a: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lastprivate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директивы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f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Заголовок 3"/>
          <p:cNvSpPr/>
          <p:nvPr/>
        </p:nvSpPr>
        <p:spPr>
          <a:xfrm>
            <a:off x="1187280" y="-71280"/>
            <a:ext cx="7772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поль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ической с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одзаголовок 4"/>
          <p:cNvSpPr/>
          <p:nvPr/>
        </p:nvSpPr>
        <p:spPr>
          <a:xfrm>
            <a:off x="1042920" y="1000080"/>
            <a:ext cx="810108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ventCn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#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 parall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if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 condition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#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 critica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vents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ventCnt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+= 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итические секции – очень времяемкие директивы. Быстрее можно, например,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ventCn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#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 parallel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eductio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+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eventC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if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 condition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ventCnt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+= 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днако, если внутри потоков параллельного региона нужно использовать значения суммарного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ventC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о использовать редукцию не удастся. Тогда можно попробовать еще один вариант – директиву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tom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Заголовок 3"/>
          <p:cNvSpPr/>
          <p:nvPr/>
        </p:nvSpPr>
        <p:spPr>
          <a:xfrm>
            <a:off x="179280" y="0"/>
            <a:ext cx="8964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Arial"/>
              </a:rPr>
              <a:t>Пример неверного использования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Arial"/>
              </a:rPr>
              <a:t>директивы 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одзаголовок 4"/>
          <p:cNvSpPr/>
          <p:nvPr/>
        </p:nvSpPr>
        <p:spPr>
          <a:xfrm>
            <a:off x="1116000" y="1052640"/>
            <a:ext cx="8064360" cy="58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ff"/>
                </a:solidFill>
                <a:latin typeface="Gill Sans MT"/>
                <a:ea typeface="Arial"/>
              </a:rPr>
              <a:t>#include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ff"/>
                </a:solidFill>
                <a:latin typeface="Gill Sans MT"/>
                <a:ea typeface="Arial"/>
              </a:rPr>
              <a:t>#include 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ff"/>
                </a:solidFill>
                <a:latin typeface="Gill Sans MT"/>
                <a:ea typeface="Arial"/>
              </a:rPr>
              <a:t>#include 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&lt;omp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Gill Sans MT"/>
                <a:ea typeface="Arial"/>
              </a:rPr>
              <a:t>#</a:t>
            </a:r>
            <a:r>
              <a:rPr b="0" i="1" lang="en-US" sz="2000" spc="-1" strike="noStrike">
                <a:solidFill>
                  <a:srgbClr val="0000ff"/>
                </a:solidFill>
                <a:latin typeface="Gill Sans MT"/>
                <a:ea typeface="Arial"/>
              </a:rPr>
              <a:t>define</a:t>
            </a:r>
            <a:r>
              <a:rPr b="0" i="1" lang="en-US" sz="2000" spc="-1" strike="noStrike">
                <a:solidFill>
                  <a:srgbClr val="0070c0"/>
                </a:solidFill>
                <a:latin typeface="Gill Sans MT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RRAYSIZ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Gill Sans MT"/>
                <a:ea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main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) {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b050"/>
                </a:solidFill>
                <a:latin typeface="Corbel"/>
                <a:ea typeface="Arial"/>
              </a:rPr>
              <a:t>// пузырьковая сорт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Gill Sans MT"/>
                <a:ea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i, j, tmp, arrayX[ ARRAYSIZE 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Gill Sans MT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Gill Sans MT"/>
                <a:ea typeface="Arial"/>
              </a:rPr>
              <a:t>for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( i = 0; i &lt; ARRAYSIZE; i +=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1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rrayX[ i ] = rand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Gill Sans MT"/>
                <a:ea typeface="Arial"/>
              </a:rPr>
              <a:t>//</a:t>
            </a:r>
            <a:r>
              <a:rPr b="0" i="1" lang="ru-RU" sz="2000" spc="-1" strike="noStrike">
                <a:solidFill>
                  <a:srgbClr val="00b050"/>
                </a:solidFill>
                <a:latin typeface="Corbel"/>
                <a:ea typeface="Arial"/>
              </a:rPr>
              <a:t>директивы 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  <a:ea typeface="Arial"/>
              </a:rPr>
              <a:t>parallel</a:t>
            </a:r>
            <a:r>
              <a:rPr b="0" i="1" lang="ru-RU" sz="2000" spc="-1" strike="noStrike">
                <a:solidFill>
                  <a:srgbClr val="00b050"/>
                </a:solidFill>
                <a:latin typeface="Corbel"/>
                <a:ea typeface="Arial"/>
              </a:rPr>
              <a:t> и 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  <a:ea typeface="Arial"/>
              </a:rPr>
              <a:t>for </a:t>
            </a:r>
            <a:r>
              <a:rPr b="0" i="1" lang="ru-RU" sz="2000" spc="-1" strike="noStrike">
                <a:solidFill>
                  <a:srgbClr val="00b050"/>
                </a:solidFill>
                <a:latin typeface="Corbel"/>
                <a:ea typeface="Arial"/>
              </a:rPr>
              <a:t>могут быть записаны вмес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Gill Sans MT"/>
                <a:ea typeface="Arial"/>
              </a:rPr>
              <a:t>#</a:t>
            </a:r>
            <a:r>
              <a:rPr b="0" i="1" lang="en-US" sz="2000" spc="-1" strike="noStrike">
                <a:solidFill>
                  <a:srgbClr val="0000ff"/>
                </a:solidFill>
                <a:latin typeface="Gill Sans MT"/>
                <a:ea typeface="Arial"/>
              </a:rPr>
              <a:t>pragma</a:t>
            </a:r>
            <a:r>
              <a:rPr b="0" i="1" lang="en-US" sz="2000" spc="-1" strike="noStrike">
                <a:solidFill>
                  <a:srgbClr val="0070c0"/>
                </a:solidFill>
                <a:latin typeface="Gill Sans MT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Gill Sans MT"/>
                <a:ea typeface="Arial"/>
              </a:rPr>
              <a:t>omp parallel for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  <a:ea typeface="Arial"/>
              </a:rPr>
              <a:t>//</a:t>
            </a:r>
            <a:r>
              <a:rPr b="0" i="1" lang="ru-RU" sz="2000" spc="-1" strike="noStrike">
                <a:solidFill>
                  <a:srgbClr val="00b050"/>
                </a:solidFill>
                <a:latin typeface="Corbel"/>
                <a:ea typeface="Arial"/>
              </a:rPr>
              <a:t>для этого цикла не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Gill Sans MT"/>
                <a:ea typeface="Arial"/>
              </a:rPr>
              <a:t>	</a:t>
            </a:r>
            <a:r>
              <a:rPr b="0" i="1" sz="2000" spc="-1" strike="noStrike">
                <a:solidFill>
                  <a:srgbClr val="0000ff"/>
                </a:solidFill>
                <a:latin typeface="Gill Sans MT"/>
                <a:ea typeface="Arial"/>
              </a:rPr>
              <a:t>for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i = 0; i &lt;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RRAYSIZE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; i += 1 )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Corbel"/>
                <a:ea typeface="Arial"/>
              </a:rPr>
              <a:t>{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Corbel"/>
                <a:ea typeface="Arial"/>
              </a:rPr>
              <a:t>//этот вариант тоже неверен: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  <a:ea typeface="Arial"/>
              </a:rPr>
              <a:t>#pragma omp parallel for</a:t>
            </a:r>
            <a:r>
              <a:rPr b="0" i="1" lang="ru-RU" sz="2000" spc="-1" strike="noStrike">
                <a:solidFill>
                  <a:srgbClr val="00b050"/>
                </a:solidFill>
                <a:latin typeface="Corbel"/>
                <a:ea typeface="Arial"/>
              </a:rPr>
              <a:t> зде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sz="2000" spc="-1" strike="noStrike">
                <a:solidFill>
                  <a:srgbClr val="0000ff"/>
                </a:solidFill>
                <a:latin typeface="Gill Sans MT"/>
                <a:ea typeface="Arial"/>
              </a:rPr>
              <a:t>for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j = i+1; j &lt;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RRAYSIZE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; 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sz="2000" spc="-1" strike="noStrike">
                <a:solidFill>
                  <a:srgbClr val="0000ff"/>
                </a:solidFill>
                <a:latin typeface="Gill Sans MT"/>
                <a:ea typeface="Arial"/>
              </a:rPr>
              <a:t>if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rray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X[ j ] &lt; a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rray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X[ i ]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Corbel"/>
                <a:ea typeface="Arial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tmp = a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rray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X[ i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rray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X[ i ] = a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rray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X[ j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rray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X[ j ] = t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Gill Sans MT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0360"/>
                <a:tab algn="l" pos="714240"/>
                <a:tab algn="l" pos="1076400"/>
                <a:tab algn="l" pos="1436760"/>
                <a:tab algn="l" pos="1790640"/>
                <a:tab algn="l" pos="2151000"/>
                <a:tab algn="l" pos="251316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Заголовок 3"/>
          <p:cNvSpPr/>
          <p:nvPr/>
        </p:nvSpPr>
        <p:spPr>
          <a:xfrm>
            <a:off x="1042920" y="71280"/>
            <a:ext cx="79167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Arial"/>
              </a:rPr>
              <a:t>Результаты работы неверной программы пузырьковой сортировк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одзаголовок 4"/>
          <p:cNvSpPr/>
          <p:nvPr/>
        </p:nvSpPr>
        <p:spPr>
          <a:xfrm>
            <a:off x="1187280" y="1800360"/>
            <a:ext cx="795672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int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array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X[ ]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0000"/>
                </a:solidFill>
                <a:latin typeface="Corbel"/>
                <a:ea typeface="Arial"/>
              </a:rPr>
              <a:t>{3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2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17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3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2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91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65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8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1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6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55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2, 5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27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3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56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9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4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15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4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15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93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4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26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4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63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9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2,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4}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При количестве потоков 1 или 2 (все хорошо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, 3, 4, 5, 6, 7, 8, 9, 15, 15, 17, 26, 27, 32, 33, 39, 41, 42, 44, 44, 55, 56, 63, 65, 73, 74, 74, 82, 82, 84, 88, 91, 9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При количестве потоков 4,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первый запуск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1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26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6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9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1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1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17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8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6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5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2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1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2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27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2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6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6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4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4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4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9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9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второй запус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9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4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1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6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1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1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17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8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6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55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2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74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1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2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27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26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39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2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44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63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84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9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Заголовок 3"/>
          <p:cNvSpPr/>
          <p:nvPr/>
        </p:nvSpPr>
        <p:spPr>
          <a:xfrm>
            <a:off x="108000" y="71280"/>
            <a:ext cx="88516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Arial"/>
              </a:rPr>
              <a:t>Опции директивы </a:t>
            </a:r>
            <a:r>
              <a:rPr b="1" i="1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одзаголовок 4"/>
          <p:cNvSpPr/>
          <p:nvPr/>
        </p:nvSpPr>
        <p:spPr>
          <a:xfrm>
            <a:off x="1187280" y="1800360"/>
            <a:ext cx="795672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  <a:ea typeface="Arial"/>
              </a:rPr>
              <a:t>private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список переменных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orbel"/>
                <a:ea typeface="Arial"/>
              </a:rPr>
              <a:t>firstprivate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список переменных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  <a:ea typeface="Arial"/>
              </a:rPr>
              <a:t>lastprivate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список переменных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orbel"/>
                <a:ea typeface="Arial"/>
              </a:rPr>
              <a:t>reduction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оператор : список переменных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orbel"/>
                <a:ea typeface="Arial"/>
              </a:rPr>
              <a:t>no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  <a:ea typeface="Arial"/>
              </a:rPr>
              <a:t>schedule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( type[, chunk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  <a:ea typeface="Arial"/>
              </a:rPr>
              <a:t>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  <a:ea typeface="Arial"/>
              </a:rPr>
              <a:t>collapse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Заголовок 3"/>
          <p:cNvSpPr/>
          <p:nvPr/>
        </p:nvSpPr>
        <p:spPr>
          <a:xfrm>
            <a:off x="250920" y="-27000"/>
            <a:ext cx="87087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Arial"/>
              </a:rPr>
              <a:t>Опция 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schedul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одзаголовок 4"/>
          <p:cNvSpPr/>
          <p:nvPr/>
        </p:nvSpPr>
        <p:spPr>
          <a:xfrm>
            <a:off x="971640" y="692280"/>
            <a:ext cx="817236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type[, chunk]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Задаёт способ распределения итераций цикла по поток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ype =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– блочно-циклическое распределение итераций цикл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c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размером блока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chunk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. Первый блок из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chunk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итераций выполняет мастер-поток, второй блок — поток с номером 1 и т.д. до последнего потока, затем распределение снова начинается с нулевог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потока. Если значение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chunk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не указано, то всё множество итераций делится на непрерывные куски примерно одинакового размера (конкретный способ зависит от реализации), и полученные порции итераций распределяются между потоками. Примеры: </a:t>
            </a: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static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, 1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6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static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Пусть есть цикл </a:t>
            </a: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for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 </a:t>
            </a: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i =0; i &lt; 256; i++) { … 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#pragma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omp for num_threads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 4 )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shedule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 static, 16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Поток 0 выполнит итерации 0-15, 64-79, 128-143, 192-2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Поток 1 выполнит итерации 16-31, 80-95, 144-159, 208-22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Gill Sans MT"/>
                <a:ea typeface="Arial"/>
              </a:rPr>
              <a:t>#pragma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omp for num_threads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 4 )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shedule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 stat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Поток 0 выполнит итерации 0-6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Поток 1 выполнит итерации 64-127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Заголовок 3"/>
          <p:cNvSpPr/>
          <p:nvPr/>
        </p:nvSpPr>
        <p:spPr>
          <a:xfrm>
            <a:off x="179280" y="-27000"/>
            <a:ext cx="8780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Arial"/>
              </a:rPr>
              <a:t>Опция 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schedul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одзаголовок 4"/>
          <p:cNvSpPr/>
          <p:nvPr/>
        </p:nvSpPr>
        <p:spPr>
          <a:xfrm>
            <a:off x="179280" y="809640"/>
            <a:ext cx="90727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	</a:t>
            </a: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type[, chunk]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type = </a:t>
            </a:r>
            <a:r>
              <a:rPr b="0" i="1" lang="en-US" sz="2100" spc="-1" strike="noStrike">
                <a:solidFill>
                  <a:srgbClr val="ff0000"/>
                </a:solidFill>
                <a:latin typeface="Gill Sans MT"/>
                <a:ea typeface="Arial"/>
              </a:rPr>
              <a:t>dynamic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– динамическое распределение итераций с фиксированным размером блока: сначала каждый поток получает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chunk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итераций (по умолчанию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chunk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= 1), затем тот поток, который первым заканчивает выполнение своей порции итераций, получает первую оставшуюся порцию из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chunk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 итераций и т.д.. Освободившиеся потоки получают новые порции итераций до тех пор, пока все порции не будут исчерпаны. Последняя порция может содержать меньше итераций, чем все остальные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римеры: </a:t>
            </a: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dynamic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 )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или </a:t>
            </a: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dynamic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, 4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Для того же цикла в первом случае (</a:t>
            </a: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dynamic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 )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) распределение может оказаться таки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0: 0, 6, 8, 13,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1: 1, 7, 11, 16,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2: 2, 4, 10, 15,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3: 3, 5, 9, 12, 14,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Во втором случае (</a:t>
            </a: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dynamic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, 4 )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), например, таки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0: 0-3, 24-27, 8, 48-51,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1: 4-7, 20-23, 32-35, 52-55,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2: 8-11, 28-31, 36-39, 44-47,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3: 12-15, 16-19, 40-43, 56-59,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Заголовок 3"/>
          <p:cNvSpPr/>
          <p:nvPr/>
        </p:nvSpPr>
        <p:spPr>
          <a:xfrm>
            <a:off x="250920" y="-27000"/>
            <a:ext cx="87087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Arial"/>
              </a:rPr>
              <a:t>Опция 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schedul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одзаголовок 4"/>
          <p:cNvSpPr/>
          <p:nvPr/>
        </p:nvSpPr>
        <p:spPr>
          <a:xfrm>
            <a:off x="971640" y="835200"/>
            <a:ext cx="8172360" cy="60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	</a:t>
            </a: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type[, chunk]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type =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en-US" sz="2100" spc="-1" strike="noStrike">
                <a:solidFill>
                  <a:srgbClr val="ff0000"/>
                </a:solidFill>
                <a:latin typeface="Gill Sans MT"/>
                <a:ea typeface="Arial"/>
              </a:rPr>
              <a:t>guided</a:t>
            </a: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– динамическое распределение итераций, при котором размер порции уменьшается с некоторого начального значения до величины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chunk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(по умолчанию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chunk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= 1) пропорционально количеству ещё не распределённых итераций, делённому на количество потоков, выполняющих цикл. Размер первоначально выделяемого блока зависит от реализации. В ряде случаев такое распределение позволяет аккуратнее разделить работу и сбалансировать загрузку потоков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римеры: </a:t>
            </a: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guided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, 4 )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или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guided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Для того же цикла в случае </a:t>
            </a: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guided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, 4 )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распределение может оказаться таки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0: 0-15, 76-87, 121-129,  … 244-24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1: 16-31, 88-99, 130-138, … 252-25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2: 32-47, 64-75, 139-147, … 248-25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3: 48-63, 100-111, 112-120, … 240-24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В случае </a:t>
            </a:r>
            <a:r>
              <a:rPr b="0" i="1" lang="ru-RU" sz="21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( </a:t>
            </a:r>
            <a:r>
              <a:rPr b="0" i="1" lang="en-US" sz="2100" spc="-1" strike="noStrike">
                <a:solidFill>
                  <a:srgbClr val="000000"/>
                </a:solidFill>
                <a:latin typeface="Gill Sans MT"/>
                <a:ea typeface="Arial"/>
              </a:rPr>
              <a:t>guided</a:t>
            </a:r>
            <a:r>
              <a:rPr b="0" i="1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 )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, например, таки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0: 0-15, 64-75, 121-129,  … 247, 24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1: 16-31, 88-99, 112-120, …254, 25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2: 32-47, 76-87, 130-138, … 251, 25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8680" indent="-688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  <a:ea typeface="Arial"/>
              </a:rPr>
              <a:t>Поток 3: 48-63, 100-111, 139-147, … 248, 25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Заголовок 3"/>
          <p:cNvSpPr/>
          <p:nvPr/>
        </p:nvSpPr>
        <p:spPr>
          <a:xfrm>
            <a:off x="324000" y="-27000"/>
            <a:ext cx="8635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Arial"/>
              </a:rPr>
              <a:t>Опция 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schedul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одзаголовок 4"/>
          <p:cNvSpPr/>
          <p:nvPr/>
        </p:nvSpPr>
        <p:spPr>
          <a:xfrm>
            <a:off x="1042920" y="907920"/>
            <a:ext cx="810108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7480" indent="-71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	</a:t>
            </a: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schedule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type[, chunk]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ype =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auto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– способ распределения итераций (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,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dynamic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или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guided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) выбирается компилятором и/или системой выполнения. Параметр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chunk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при этом не зад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ype =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ff0000"/>
                </a:solidFill>
                <a:latin typeface="Corbel"/>
                <a:ea typeface="Arial"/>
              </a:rPr>
              <a:t>runtime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– способ распределения итераций выбирается во время работы программы по значению переменной среды OMP_SCHEDULE (которую устанавливает системный администратор, например, так: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"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  <a:ea typeface="Arial"/>
              </a:rPr>
              <a:t>dynamic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, 8</a:t>
            </a:r>
            <a:r>
              <a:rPr b="0" i="1" sz="2200" spc="-1" strike="noStrike">
                <a:solidFill>
                  <a:srgbClr val="000000"/>
                </a:solidFill>
                <a:latin typeface="Gill Sans MT"/>
                <a:ea typeface="Arial"/>
              </a:rPr>
              <a:t>"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). Параметр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chunk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при этом значении опции тоже не зад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4:50:28Z</dcterms:created>
  <dc:creator>Lector</dc:creator>
  <dc:description/>
  <dc:language>en-US</dc:language>
  <cp:lastModifiedBy>Учетная запись Майкрософт</cp:lastModifiedBy>
  <dcterms:modified xsi:type="dcterms:W3CDTF">2024-04-18T06:45:02Z</dcterms:modified>
  <cp:revision>137</cp:revision>
  <dc:subject/>
  <dc:title>Параллельное программирование</dc:title>
</cp:coreProperties>
</file>