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E8E-DBF3-4252-AD07-D89BE5EC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4274-0597-4625-9165-9F908FCE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774-1071-4BB2-BD50-E97EFFD9D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A93-3EC5-4DDB-98D1-D83423EB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9F80-1FD1-4576-B15E-E2EF8BD3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CAA0-7597-4A62-9EE8-6D28E9EB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4381-7182-4722-AF89-1F536B7F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79D7A-99D7-45D5-9B95-0913F5CE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9705-E9EE-4C67-A3EF-987ADB08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28FB-B98C-4BD4-AD4A-64DEEC52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3C68-46CB-4A3B-8800-7DC49DFE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011-E6E4-420D-BBF7-4DC5CDC5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B344-FC0F-417D-8513-551D842C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6BE5-EE02-463A-946B-6EEED355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5420-63E5-4B3F-AC62-3B52F4F5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EAC4-E67D-4A28-B7A7-9E688C53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5A89-7D46-45D0-A5D1-6F30D05F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7C48D-48EF-4768-A88A-4F567C0C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ED40D-2E03-4C69-9A87-30B38E2B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78121-1F63-405A-BE58-1BA3B810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E6D77-F273-4323-9989-1B5B6ED7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2DEFA-0CA9-45E3-BEE0-3429BF13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AD77-340E-45C3-B2D6-0D6EADD9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8B50C-A2EC-42D1-99D3-F3A7C7F3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1C0D-26F5-417B-89AA-33025F35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9CC8-3351-4B30-ACB5-FDCFA5F7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4F2AC-1675-4462-BD67-D7D3FF21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69CC2-E3AC-4513-ACAB-851DAF1C1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6208-6ABF-4217-828A-DBA46E59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1B6E-215E-488D-8753-B06B64E7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59DE2-FBA6-4063-9F9B-82AE7DB1C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EDC2D-E9D6-41AF-B18F-0D1BFFD58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A32EE-DEB3-4610-93BF-0054A243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5AD-41FA-4037-BBF0-F92C0738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7053B-9A79-443A-B72F-76AE826E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FED93-53AB-4AF9-AAA7-8FB72345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B96EF-8331-4F96-8387-79DBE1D2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1F3D0-866C-4B31-BD5F-27E6C1C7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0973A-E19D-46D5-A7E9-3F0FC63E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DD44-611E-4682-A277-02E7695F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A9586-3380-4DED-94CF-1B4DB4A9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3E98C-746C-4676-92F7-FB5797A3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8650-883A-43E1-8BE4-C99A1C4E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6BDF2-260D-4C39-8A3D-C3B4A952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687B-6BDF-4578-AE0E-956A7B44F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2CA2-2918-451C-9C4E-D47328E4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CBA40-9684-47FE-BDB0-9A5AB41C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E153B-A7A3-42B4-95E7-4C5FE0F2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29EEF-EE3F-48FA-9A81-04084023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65FCB-6BF2-434F-A103-FB60AF14D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0E7A2-6FFF-4C1C-9518-348F8B28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C18C-6EC2-4AB7-8EB1-0A3F67D5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0C0E9-1AA0-48FD-82F7-46F9A22E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F9A06-1DF4-443C-BAC6-D834971C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1B5BD-6C5A-4243-848D-F9AB2F697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77DB-F291-49C7-AA30-07768CCC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30754-37E5-4555-8E1E-A42841F81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DEBD5-3B46-4945-8563-C75E0DB1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E2943-2FD4-4EE7-A0D0-61FB76FE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51751-5E3C-445D-BBE2-7A3294E0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249F6-416A-4F11-8B31-A9B8A51E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15BE4-AEEB-42B5-AE8B-D4FA52A7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1EAC7-C25C-491C-AFE9-CE1E76D9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1305C-9F9D-47C7-9932-4EBE668D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DA93E-8F91-4248-857F-70205B57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F4BC4-1E64-451B-A757-EBFEF8A7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AEF-7EAF-4714-A933-2BD7F528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02F5B-2651-4873-A5E7-3FEA5BC5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EDEED-6F8F-4730-AE1D-57897F00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BFFF6-3BF2-4E51-AA77-4CE4E5022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BCD9A-3B7F-4F0C-AEAE-547CF6297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FE85F-838D-4762-8CA7-AC043CCD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162C7-5556-44A0-B2E3-0C928C82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F5B9D-7BFF-4BE3-952C-97802E59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FE32D-564F-4EE1-8878-59946A87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56F51-1777-4127-862D-46545BD7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B1CB9-8DC4-465E-AF9A-614C66FC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3C55-956A-463F-8B5A-AB31C69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56339-0363-4120-A35A-5D03BABD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A51D5-5340-4AA3-A6A3-E2572A2A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21AB1-7249-4196-BE2D-26116517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8F337-8AF5-48E7-AFB5-361E32D5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510D9-C0AB-4F37-BAE9-1E37E1F2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92C9-DC08-486D-91E9-41E59312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FBCE-A24F-463D-A18B-D5AC80264DA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A4BA-709A-41B9-A1FA-5A7043F2143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7733-78E8-4689-9A25-BCE84097781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6310C-8C2E-4C68-BDB7-57AC027DD61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D4A4-3E6E-465E-B70C-72D5C642E165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B361-802F-4043-AACB-F2351DEE48B3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F374-1B8A-47EE-B8B3-0F90198A19B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Заголовок 3"/>
          <p:cNvSpPr/>
          <p:nvPr/>
        </p:nvSpPr>
        <p:spPr>
          <a:xfrm>
            <a:off x="1116000" y="4428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остые примеры оформления яде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CUDA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одзаголовок 4"/>
          <p:cNvSpPr/>
          <p:nvPr/>
        </p:nvSpPr>
        <p:spPr>
          <a:xfrm>
            <a:off x="1042920" y="1008000"/>
            <a:ext cx="82090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Цикл поэлементного вычисления суммы двух массивов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fo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i = 0; i &lt; N ; i++)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[ i ] = x[ i ] + y[ i 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может так выглядеть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DA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__global__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mAdd(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oubl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x,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oubl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y,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oubl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z ) 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unsigned i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tid = blockDim.x * blockIdx.x + threadIdx.x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[ tid ] = x[ tid ] + y[ tid ]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вот так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CL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yKernel = "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__kernel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vo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mAdd(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__global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 doubl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x, 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__global 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oubl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y,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__global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doubl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*z ) { 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unsigne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i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tid = get_global_id( 0 ); 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z[ tid ] = x[ tid ] + y[ tid ]; 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" } 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042920" y="2421000"/>
            <a:ext cx="7921800" cy="136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4"/>
          <p:cNvSpPr/>
          <p:nvPr/>
        </p:nvSpPr>
        <p:spPr>
          <a:xfrm>
            <a:off x="1042920" y="4437000"/>
            <a:ext cx="7921800" cy="1673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дзаголовок 4"/>
          <p:cNvSpPr/>
          <p:nvPr/>
        </p:nvSpPr>
        <p:spPr>
          <a:xfrm>
            <a:off x="1042920" y="981000"/>
            <a:ext cx="82090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3.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Выделение памяти 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floa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*d_A, *d_B, *d_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udaMallo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 (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**)&amp;d_A, dataSiz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b33a"/>
                </a:solidFill>
                <a:latin typeface="Arial"/>
                <a:ea typeface="Arial"/>
              </a:rPr>
              <a:t>//</a:t>
            </a:r>
            <a:r>
              <a:rPr b="0" i="1" lang="ru-RU" sz="2000" spc="-1" strike="noStrike">
                <a:solidFill>
                  <a:srgbClr val="2db33a"/>
                </a:solidFill>
                <a:latin typeface="Arial"/>
                <a:ea typeface="Arial"/>
              </a:rPr>
              <a:t> Обработка ошибок, пример, дальше отсутств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 (errCode =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udaGetLastErr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)) !=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UDA_SUCCES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tf("Error: %s",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udaGetErrorStrin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rrCode 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udaMallo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 (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**)&amp;d_B, dataSiz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udaMallo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 (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**)&amp;d_C, dataSiz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4.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Скопировать входные данные в GPU для об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cudaMemcp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 d_A, h_A, dataSize,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cudaMemcpyHostToDevic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cudaMemcp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 d_B, h_B, dataSize,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cudaMemcpyHostToDevic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5.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Запустить ядро из N / 256 блоков по 256 пот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Предполагается, что N кратно 2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Инициализация ядра в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GPU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vectorAdd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&lt;&lt;&lt;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N / 256, 256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&gt;&gt;&gt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d_C, d_A, d_B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6.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Переписать результаты работы GPU в память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CPU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cudaMemcp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_C, d_C, dataSize, </a:t>
            </a:r>
            <a:r>
              <a:rPr b="0" i="1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cudaMemcpyDeviceToHo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7.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Обработка результатов работы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одзаголовок 4"/>
          <p:cNvSpPr/>
          <p:nvPr/>
        </p:nvSpPr>
        <p:spPr>
          <a:xfrm>
            <a:off x="1042920" y="981000"/>
            <a:ext cx="8209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#inclu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#inclu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malloc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#inclu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CL/cl_platfor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#inclu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Cl/cl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#inclu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on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IZE = 104857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Ядро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OpenCL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, вычисляющее сумму век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on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vAdd = "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__kerne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ectorAdd(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__globa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a, 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__globa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b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__globa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c) {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unsign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id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get_global_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*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 + i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*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+ i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+ *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+ i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"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// c[ id ] = a[ id ] + b[ id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"}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"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b33a"/>
                </a:solidFill>
                <a:latin typeface="Arial"/>
              </a:rPr>
              <a:t>// </a:t>
            </a:r>
            <a:r>
              <a:rPr b="0" i="1" lang="ru-RU" sz="2000" spc="-1" strike="noStrike">
                <a:solidFill>
                  <a:srgbClr val="2db33a"/>
                </a:solidFill>
                <a:latin typeface="Arial"/>
              </a:rPr>
              <a:t>Основ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_tmain(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rgc, _TCHAR* argv[ ]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b33a"/>
                </a:solidFill>
                <a:latin typeface="Arial"/>
              </a:rPr>
              <a:t>// </a:t>
            </a:r>
            <a:r>
              <a:rPr b="0" i="1" lang="ru-RU" sz="2000" spc="-1" strike="noStrike">
                <a:solidFill>
                  <a:srgbClr val="2db33a"/>
                </a:solidFill>
                <a:latin typeface="Arial"/>
              </a:rPr>
              <a:t>эта страница - вариант с ядром в коде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одзаголовок 4"/>
          <p:cNvSpPr/>
          <p:nvPr/>
        </p:nvSpPr>
        <p:spPr>
          <a:xfrm>
            <a:off x="1042920" y="863640"/>
            <a:ext cx="8209080" cy="59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#inclu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#inclu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malloc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#inclu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CL/cl_platform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#inclu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Cl/cl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#inclu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iostrea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on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IZE = 104857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_tmain(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rgc, _TCHAR* argv[ ]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vAd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LE *f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_t program_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p = fopen( "kernel.cl", "r" 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seek( fp, 0, SEEK_END ); program_size = ftell( fp 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wind( fp ); </a:t>
            </a:r>
            <a:r>
              <a:rPr b="0" i="1" lang="ru-RU" sz="2000" spc="-1" strike="noStrike">
                <a:solidFill>
                  <a:srgbClr val="2db33a"/>
                </a:solidFill>
                <a:latin typeface="Arial"/>
              </a:rPr>
              <a:t>// или </a:t>
            </a:r>
            <a:r>
              <a:rPr b="0" i="1" lang="en-US" sz="2000" spc="-1" strike="noStrike">
                <a:solidFill>
                  <a:srgbClr val="2db33a"/>
                </a:solidFill>
                <a:latin typeface="Arial"/>
              </a:rPr>
              <a:t>fseek( fp, 0, SEEK_START )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dd = (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)malloc( program_size + 1 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dd[ program_size ] = '\0'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считывание ядра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OpenCL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 из файла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kernel.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ad( vAdd, sizeof(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), program_size, fp 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close( fp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b33a"/>
                </a:solidFill>
                <a:latin typeface="Arial"/>
              </a:rPr>
              <a:t>// </a:t>
            </a:r>
            <a:r>
              <a:rPr b="0" i="1" lang="ru-RU" sz="2000" spc="-1" strike="noStrike">
                <a:solidFill>
                  <a:srgbClr val="2db33a"/>
                </a:solidFill>
                <a:latin typeface="Arial"/>
              </a:rPr>
              <a:t>эта страница - вариант с ядром в отдельном фай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одзаголовок 4"/>
          <p:cNvSpPr/>
          <p:nvPr/>
        </p:nvSpPr>
        <p:spPr>
          <a:xfrm>
            <a:off x="1042920" y="981000"/>
            <a:ext cx="8209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Определение необходимых переменных и массив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Указатели на массивы в памяти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h_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h_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h_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//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Для получения кода возврата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OpenCL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ler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Количество доступных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OpenCL-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платф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u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qty_platform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Список идентификаторов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OpenCL-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платформ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и его инде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platform_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platform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u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u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Количество OpenCL-устройств для каждой плат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u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qty_dev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массив идентификаторов OpenCL-устр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device_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*devic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Дескриптор контек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contex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ontext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одзаголовок 4"/>
          <p:cNvSpPr/>
          <p:nvPr/>
        </p:nvSpPr>
        <p:spPr>
          <a:xfrm>
            <a:off x="1042920" y="981000"/>
            <a:ext cx="8209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Дескриптор очереди кома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command_queu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queue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Дескриптор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progra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rogram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Дескриптор объекта я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kerne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kernel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Одномерное пространство уникальных идентификаторов</a:t>
            </a:r>
            <a:br>
              <a:rPr sz="2000"/>
            </a:b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//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 рабочих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_t sizeWork[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 = {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указатели на данные в памяти OpenCl-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они же аргументы я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me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rg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me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me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rg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Приступ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1. Получение количества доступных платф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er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GetPlatformID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0, NULL, &amp;qty_platform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одзаголовок 4"/>
          <p:cNvSpPr/>
          <p:nvPr/>
        </p:nvSpPr>
        <p:spPr>
          <a:xfrm>
            <a:off x="1042920" y="981000"/>
            <a:ext cx="8209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qty_platforms == 0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printf( stderr, “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penC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стройст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\n"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Обработка ошибок Далее аналогичные блоки опущ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clerr !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SUCCES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printf( stderr, "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шибка, код = %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.\n", cler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2. Выделение памяти для хранения информации 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конфигурации и параметров устр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latforms = (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platform_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)malloc(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of(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platform_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) * qty_platform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s = (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device_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* )malloc(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of(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device_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) * qty_platform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ty_devices = (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u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 )malloc( sizeof(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u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) * qty_platform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3. Получение списка идентификаторов платф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8920"/>
                <a:tab algn="l" pos="717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err =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clGetPlatformID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qty_platforms, platforms, NULL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одзаголовок 4"/>
          <p:cNvSpPr/>
          <p:nvPr/>
        </p:nvSpPr>
        <p:spPr>
          <a:xfrm>
            <a:off x="1042920" y="981000"/>
            <a:ext cx="8209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 ui=0; ui &lt; qty_platforms; ui++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Получение количества имеющихся OpenCL-устрой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//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для каждой плат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err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GetDeviceID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platform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DEVICE_TYPE_AL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0, NULL, &amp;qty_device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Получение списка идентификаторов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OpenCL-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устро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qty_device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 = (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device_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)malloc(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ty_device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 *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ize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device_id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err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GetDeviceID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platforms[ui]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DEVICE_TYPE_AL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ty_device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, device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, NULL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4. Формирование контекста. Создается контекст, в который </a:t>
            </a:r>
            <a:br>
              <a:rPr sz="2000"/>
            </a:b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//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включены OpenCL-устройства платформы 0 (упрощение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err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SUCCES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text1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CreateContex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0, qty_device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,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vice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, NULL, NULL, &amp;clerr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одзаголовок 4"/>
          <p:cNvSpPr/>
          <p:nvPr/>
        </p:nvSpPr>
        <p:spPr>
          <a:xfrm>
            <a:off x="1042920" y="981000"/>
            <a:ext cx="8209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5. Создание очереди команд для устройства 0 платформы 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queue1 = </a:t>
            </a: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clCreateCommandQueue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( context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device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], 0, &amp;clerr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6. Компиляция программы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для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OpenCL-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устрой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1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CreateProgramWithSourc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text1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, &amp;vAdd, NULL, &amp;cler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err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BuildProgra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1, 0, NULL,  NULL, NULL, 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7. Обработка возможных ошибок компиляции – это важ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clerr =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BUILD_PROGRAM_FAILU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//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Получить размер лог-фа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_t log_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GetProgramBuildInf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1, device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PROGRAM_BUILD_LO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0, NULL, &amp;log_siz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 *log = (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cha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) malloc(log_siz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GetProgramBuildInfo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1, devices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PROGRAM_BUILD_LOG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log_size, log, 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printf( stderr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%s\n", log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одзаголовок 4"/>
          <p:cNvSpPr/>
          <p:nvPr/>
        </p:nvSpPr>
        <p:spPr>
          <a:xfrm>
            <a:off x="1042920" y="981000"/>
            <a:ext cx="8209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8. Декларация ядра в програм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rnel1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CreateKerne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gram1, "vectorAdd", &amp;cler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9. Резервирование памяти в памяти хост-ма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_a =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malloc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 *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ize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_b =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malloc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 *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ize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_c =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malloc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 *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ize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floa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10. Формирование значений обрабатываемых вект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n-NO" sz="20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i="1" lang="nn-N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n-NO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i="1" lang="nn-NO" sz="2000" spc="-1" strike="noStrike">
                <a:solidFill>
                  <a:srgbClr val="000000"/>
                </a:solidFill>
                <a:latin typeface="Arial"/>
              </a:rPr>
              <a:t> i = 0; i &lt; SIZE; i++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n-NO" sz="20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_a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 = rand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_b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 = rand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11. Формирование аргументов для яд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Size = SIZE *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size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floa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g1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CreateBuff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ntext1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MEM_READ_ONLY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MEM_COPY_HOST_PT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Size, h_a, 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g2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CreateBuff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context1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MEM_READ_ONL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MEM_COPY_HOST_PT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vSize, h_b, 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g3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CreateBuff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context1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MEM_WRITE_ONL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MEM_COPY_HOST_PT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vSize, h_c, NUL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одзаголовок 4"/>
          <p:cNvSpPr/>
          <p:nvPr/>
        </p:nvSpPr>
        <p:spPr>
          <a:xfrm>
            <a:off x="1042920" y="981000"/>
            <a:ext cx="849780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12. Передача аргументов в яд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a-DK" sz="2000" spc="-1" strike="noStrike">
                <a:solidFill>
                  <a:srgbClr val="ff0000"/>
                </a:solidFill>
                <a:latin typeface="Arial"/>
              </a:rPr>
              <a:t>clSetKernelArg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kernel1, 0, </a:t>
            </a:r>
            <a:r>
              <a:rPr b="0" i="1" lang="da-DK" sz="2000" spc="-1" strike="noStrike">
                <a:solidFill>
                  <a:srgbClr val="0000ff"/>
                </a:solidFill>
                <a:latin typeface="Arial"/>
              </a:rPr>
              <a:t>sizeof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ff0000"/>
                </a:solidFill>
                <a:latin typeface="Arial"/>
              </a:rPr>
              <a:t>cl_me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)&amp;arg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a-DK" sz="2000" spc="-1" strike="noStrike">
                <a:solidFill>
                  <a:srgbClr val="ff0000"/>
                </a:solidFill>
                <a:latin typeface="Arial"/>
              </a:rPr>
              <a:t>clSetKernelArg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kernel1, 1, </a:t>
            </a:r>
            <a:r>
              <a:rPr b="0" i="1" lang="da-DK" sz="2000" spc="-1" strike="noStrike">
                <a:solidFill>
                  <a:srgbClr val="0000ff"/>
                </a:solidFill>
                <a:latin typeface="Arial"/>
              </a:rPr>
              <a:t>sizeof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ff0000"/>
                </a:solidFill>
                <a:latin typeface="Arial"/>
              </a:rPr>
              <a:t>cl_me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)&amp;arg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a-DK" sz="2000" spc="-1" strike="noStrike">
                <a:solidFill>
                  <a:srgbClr val="ff0000"/>
                </a:solidFill>
                <a:latin typeface="Arial"/>
              </a:rPr>
              <a:t>clSetKernelArg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kernel1, 2, </a:t>
            </a:r>
            <a:r>
              <a:rPr b="0" i="1" lang="da-DK" sz="2000" spc="-1" strike="noStrike">
                <a:solidFill>
                  <a:srgbClr val="0000ff"/>
                </a:solidFill>
                <a:latin typeface="Arial"/>
              </a:rPr>
              <a:t>sizeof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ff0000"/>
                </a:solidFill>
                <a:latin typeface="Arial"/>
              </a:rPr>
              <a:t>cl_me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ff"/>
                </a:solidFill>
                <a:latin typeface="Arial"/>
              </a:rPr>
              <a:t>void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)&amp;arg3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Установка размерности сетки пот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Work[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] = 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13. </a:t>
            </a:r>
            <a:r>
              <a:rPr b="0" i="1" lang="ru-RU" sz="2000" spc="-1" strike="noStrike" u="sng">
                <a:solidFill>
                  <a:srgbClr val="00b050"/>
                </a:solidFill>
                <a:uFillTx/>
                <a:latin typeface="Arial"/>
              </a:rPr>
              <a:t>Запуск ядра на вычис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err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EnqueueNDRangeKerne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eue1,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</a:rPr>
              <a:t>// queue1 -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очере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ernel1,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запускаемое ядр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количество измерений сетки пот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в стандарте пока не задействова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zeWork,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размерности сетки по ее измер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ULL,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размерности блока потоков по его измер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, NULL, NULL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связь с событиями, мы не использу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err !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SUCCESS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printf(stderr,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nOpenCl error: %d", clerr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Заголовок 3"/>
          <p:cNvSpPr/>
          <p:nvPr/>
        </p:nvSpPr>
        <p:spPr>
          <a:xfrm>
            <a:off x="1116000" y="44280"/>
            <a:ext cx="77724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нятие сетки блоков пото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одзаголовок 4"/>
          <p:cNvSpPr/>
          <p:nvPr/>
        </p:nvSpPr>
        <p:spPr>
          <a:xfrm>
            <a:off x="1042920" y="692280"/>
            <a:ext cx="820908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Согласно терминологии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D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CL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дро запускается на выполнение в виде сетки блоков потоков в соответствии с моделью вычислительной системы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devi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(сетка) –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work grou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блок) –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work ite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то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аждый поток имеет свои уникальные координаты в блоке и в целом в сетке. Обе технологии предоставляют потокам возможности определять свои координаты и вести себя в соответствии с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начениями координ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D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вично понятие блока потоков вследствие большей ориентации на графические процессо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CL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ервичным является понятие сетки потоков. Деление на блоки возможно, но не обязатель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обеих технологиях и сетка и блоки рассматриваются как 1-, 2- или 3-мерная совокупность более мелких составляющих.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DA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сетки это блоки, для блоков – потоки.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CL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 для сетки и для блоков – это потоки, причем размеры сетки по каждому измерению обязаны нацело делиться на соответствующие размеры бло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одзаголовок 4"/>
          <p:cNvSpPr/>
          <p:nvPr/>
        </p:nvSpPr>
        <p:spPr>
          <a:xfrm>
            <a:off x="1042920" y="981000"/>
            <a:ext cx="8209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14. Копирование результатов в основную память хостма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err =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EnqueueReadBuffe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queue1, arg3,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_TRU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Size, h_c, 0, NULL, NULL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15. Освобождение памяти в OpenCL-устрой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ReleaseMemObje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arg1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ReleaseMemObje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arg2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ReleaseMemObje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arg3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16. Освобождение ресур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ReleaseKerne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kernel1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ReleaseProgra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program1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ReleaseCommandQueu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queue1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clReleaseContex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context1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e( qty_device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e( device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e( platforms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одзаголовок 4"/>
          <p:cNvSpPr/>
          <p:nvPr/>
        </p:nvSpPr>
        <p:spPr>
          <a:xfrm>
            <a:off x="1042920" y="981000"/>
            <a:ext cx="8209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17. А теперь наконец- то можно вздохну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</a:rPr>
              <a:t>// и обработать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n-NO" sz="20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i="1" lang="nn-NO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n-NO" sz="2000" spc="-1" strike="noStrike">
                <a:solidFill>
                  <a:srgbClr val="0000ff"/>
                </a:solidFill>
                <a:latin typeface="Arial"/>
              </a:rPr>
              <a:t>int</a:t>
            </a:r>
            <a:r>
              <a:rPr b="0" i="1" lang="nn-NO" sz="2000" spc="-1" strike="noStrike">
                <a:solidFill>
                  <a:srgbClr val="000000"/>
                </a:solidFill>
                <a:latin typeface="Arial"/>
              </a:rPr>
              <a:t> i = 0; i &lt; SIZE; i++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n-N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bs(h_a[ i ] + h_b[ i ] - h_c[ i ]) &gt; 0.00000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rintf("\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equal values for index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%d: %f %f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, h_a[ i ] + h_b[ i ], h_c[ i 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break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Заголовок 3"/>
          <p:cNvSpPr/>
          <p:nvPr/>
        </p:nvSpPr>
        <p:spPr>
          <a:xfrm>
            <a:off x="971640" y="79200"/>
            <a:ext cx="8172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двумерной сетки двумерных блоков потоко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одзаголовок 4"/>
          <p:cNvSpPr/>
          <p:nvPr/>
        </p:nvSpPr>
        <p:spPr>
          <a:xfrm>
            <a:off x="1042920" y="907920"/>
            <a:ext cx="810108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1476360" y="907920"/>
            <a:ext cx="700560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Заголовок 3"/>
          <p:cNvSpPr/>
          <p:nvPr/>
        </p:nvSpPr>
        <p:spPr>
          <a:xfrm>
            <a:off x="971640" y="79200"/>
            <a:ext cx="8172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пространства индексов сетки потоков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дзаголовок 4"/>
          <p:cNvSpPr/>
          <p:nvPr/>
        </p:nvSpPr>
        <p:spPr>
          <a:xfrm>
            <a:off x="1042920" y="981000"/>
            <a:ext cx="810108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анство индекс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тки потоко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C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, 2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3-мерно и обычно носит название NDRange. Вот пример 2-мерного пространства 15 х 15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разбитого на блоки 5 х 5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о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2" descr="&amp;Pcy;&amp;rcy;&amp;icy;&amp;mcy;&amp;iecy;&amp;rcy; 2D NDRange"/>
          <p:cNvPicPr/>
          <p:nvPr/>
        </p:nvPicPr>
        <p:blipFill>
          <a:blip r:embed="rId1"/>
          <a:stretch/>
        </p:blipFill>
        <p:spPr>
          <a:xfrm>
            <a:off x="2484360" y="2641680"/>
            <a:ext cx="462924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Заголовок 3"/>
          <p:cNvSpPr/>
          <p:nvPr/>
        </p:nvSpPr>
        <p:spPr>
          <a:xfrm>
            <a:off x="971640" y="79200"/>
            <a:ext cx="81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одель памят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одзаголовок 4"/>
          <p:cNvSpPr/>
          <p:nvPr/>
        </p:nvSpPr>
        <p:spPr>
          <a:xfrm>
            <a:off x="1042920" y="907920"/>
            <a:ext cx="810108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1187280" y="836640"/>
            <a:ext cx="7705800" cy="58323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5"/>
          <p:cNvSpPr/>
          <p:nvPr/>
        </p:nvSpPr>
        <p:spPr>
          <a:xfrm>
            <a:off x="7180200" y="5605560"/>
            <a:ext cx="73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7075440" y="5605560"/>
            <a:ext cx="73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Заголовок 3"/>
          <p:cNvSpPr/>
          <p:nvPr/>
        </p:nvSpPr>
        <p:spPr>
          <a:xfrm>
            <a:off x="971640" y="79200"/>
            <a:ext cx="81723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одель памяти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одзаголовок 4"/>
          <p:cNvSpPr/>
          <p:nvPr/>
        </p:nvSpPr>
        <p:spPr>
          <a:xfrm>
            <a:off x="1042920" y="907920"/>
            <a:ext cx="8101080" cy="57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Рисунок 4" descr="http://www.mechanoid.kiev.ua/content/parallel-cuda.html/gmem.png"/>
          <p:cNvPicPr/>
          <p:nvPr/>
        </p:nvPicPr>
        <p:blipFill>
          <a:blip r:embed="rId1"/>
          <a:stretch/>
        </p:blipFill>
        <p:spPr>
          <a:xfrm>
            <a:off x="1125360" y="919080"/>
            <a:ext cx="7910640" cy="58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Заголовок 3"/>
          <p:cNvSpPr/>
          <p:nvPr/>
        </p:nvSpPr>
        <p:spPr>
          <a:xfrm>
            <a:off x="971640" y="79200"/>
            <a:ext cx="8172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пуск яд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одзаголовок 4"/>
          <p:cNvSpPr/>
          <p:nvPr/>
        </p:nvSpPr>
        <p:spPr>
          <a:xfrm>
            <a:off x="1042920" y="981000"/>
            <a:ext cx="8282160" cy="58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хост-программах н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UDA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ядро запускается на выполнение с помощью специальной синтаксической конструкции, входящей в расширение языка С/С++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kernel_name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&lt;&lt;&lt;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gri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bloc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[,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mem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[,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stream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]]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&gt;&gt;&gt;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param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дес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kernel_name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ункции, объявленной как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__global__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  <a:ea typeface="Arial"/>
              </a:rPr>
              <a:t>gr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мерность сетки в блоках, задаваемая с помощью значения типа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dim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еще одного синтаксического расшир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  <a:ea typeface="Arial"/>
              </a:rPr>
              <a:t>bloc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мерность бло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потоках, тоже задаваемая с помощью значения типа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dim3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  <a:ea typeface="Arial"/>
              </a:rPr>
              <a:t>m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количество дополнительной разделяемой памяти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для каждого бло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  <a:ea typeface="Arial"/>
              </a:rPr>
              <a:t>strea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катор 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andle) CUDA-stream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(аналога очереди 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котором будет работать это ядро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  <a:ea typeface="Arial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начения аргументов функции ядр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Заголовок 3"/>
          <p:cNvSpPr/>
          <p:nvPr/>
        </p:nvSpPr>
        <p:spPr>
          <a:xfrm>
            <a:off x="971640" y="0"/>
            <a:ext cx="81723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Запуск яд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pen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одзаголовок 4"/>
          <p:cNvSpPr/>
          <p:nvPr/>
        </p:nvSpPr>
        <p:spPr>
          <a:xfrm>
            <a:off x="1042920" y="620640"/>
            <a:ext cx="8209080" cy="60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penCL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т синтаксических расширени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зыка, все делается путем вызова функций библиотеки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Ядро ставится в очередь на выполнение путем вызова функци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0000"/>
                </a:solidFill>
                <a:latin typeface="Arial"/>
              </a:rPr>
              <a:t>cl_int</a:t>
            </a:r>
            <a:r>
              <a:rPr b="0" i="1" lang="ru-RU" sz="2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200" spc="-1" strike="noStrike">
                <a:solidFill>
                  <a:srgbClr val="ff0000"/>
                </a:solidFill>
                <a:latin typeface="Arial"/>
              </a:rPr>
              <a:t>clEnqueueNDRangeKernel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i="1" lang="fr-FR" sz="2200" spc="-1" strike="noStrike">
                <a:solidFill>
                  <a:srgbClr val="ff0000"/>
                </a:solidFill>
                <a:latin typeface="Arial"/>
              </a:rPr>
              <a:t>cl_command_queue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200" spc="-1" strike="noStrike">
                <a:solidFill>
                  <a:srgbClr val="7030a0"/>
                </a:solidFill>
                <a:latin typeface="Arial"/>
              </a:rPr>
              <a:t>queue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a-DK" sz="2200" spc="-1" strike="noStrike">
                <a:solidFill>
                  <a:srgbClr val="ff0000"/>
                </a:solidFill>
                <a:latin typeface="Arial"/>
              </a:rPr>
              <a:t>cl_kernel</a:t>
            </a:r>
            <a:r>
              <a:rPr b="0" i="1" lang="da-D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a-DK" sz="2200" spc="-1" strike="noStrike">
                <a:solidFill>
                  <a:srgbClr val="7030a0"/>
                </a:solidFill>
                <a:latin typeface="Arial"/>
              </a:rPr>
              <a:t>kernel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_name</a:t>
            </a:r>
            <a:r>
              <a:rPr b="0" i="1" lang="da-DK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cl_ui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work_dim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cons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size_t *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global_work_offse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</a:rPr>
              <a:t>//сейчас 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NULL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const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ize_t *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global_work_siz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cons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size_t *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local_work_siz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200"/>
            </a:b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cl_ui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num_events_in_wait_lis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//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</a:rPr>
              <a:t>обычно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200" spc="-1" strike="noStrike">
                <a:solidFill>
                  <a:srgbClr val="0000ff"/>
                </a:solidFill>
                <a:latin typeface="Arial"/>
              </a:rPr>
              <a:t>const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200" spc="-1" strike="noStrike">
                <a:solidFill>
                  <a:srgbClr val="ff0000"/>
                </a:solidFill>
                <a:latin typeface="Arial"/>
              </a:rPr>
              <a:t>cl_event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i="1" lang="fr-FR" sz="2200" spc="-1" strike="noStrike">
                <a:solidFill>
                  <a:srgbClr val="7030a0"/>
                </a:solidFill>
                <a:latin typeface="Arial"/>
              </a:rPr>
              <a:t>event_wait_list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//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</a:rPr>
              <a:t>обычно 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NULL</a:t>
            </a:r>
            <a:br>
              <a:rPr sz="2200"/>
            </a:b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cl_eve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event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//</a:t>
            </a:r>
            <a:r>
              <a:rPr b="0" i="1" lang="ru-RU" sz="2200" spc="-1" strike="noStrike">
                <a:solidFill>
                  <a:srgbClr val="00b050"/>
                </a:solidFill>
                <a:latin typeface="Arial"/>
              </a:rPr>
              <a:t>обычно </a:t>
            </a:r>
            <a:r>
              <a:rPr b="0" i="1" lang="en-US" sz="2200" spc="-1" strike="noStrike">
                <a:solidFill>
                  <a:srgbClr val="00b050"/>
                </a:solidFill>
                <a:latin typeface="Arial"/>
              </a:rPr>
              <a:t>NULL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Здес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200" spc="-1" strike="noStrike">
                <a:solidFill>
                  <a:srgbClr val="7030a0"/>
                </a:solidFill>
                <a:latin typeface="Arial"/>
              </a:rPr>
              <a:t>queu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очередь действий с устройством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kernel_name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им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функции, объявленной как </a:t>
            </a:r>
            <a:r>
              <a:rPr b="0" i="1" lang="en-US" sz="2200" spc="-1" strike="noStrike">
                <a:solidFill>
                  <a:srgbClr val="ff0000"/>
                </a:solidFill>
                <a:latin typeface="Arial"/>
              </a:rPr>
              <a:t>__kerne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  <a:ea typeface="Arial"/>
              </a:rPr>
              <a:t>work_di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– количество измерений сетки потоков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global_work_siz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размерности сетк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в потоках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6036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7030a0"/>
                </a:solidFill>
                <a:latin typeface="Arial"/>
              </a:rPr>
              <a:t>local_work_siz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размерности блока в пото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Заголовок 3"/>
          <p:cNvSpPr/>
          <p:nvPr/>
        </p:nvSpPr>
        <p:spPr>
          <a:xfrm>
            <a:off x="971640" y="0"/>
            <a:ext cx="777708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ример программы сложения векторов н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U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одзаголовок 4"/>
          <p:cNvSpPr/>
          <p:nvPr/>
        </p:nvSpPr>
        <p:spPr>
          <a:xfrm>
            <a:off x="1042920" y="981000"/>
            <a:ext cx="820908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cons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in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N = 1048576;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Размер вектора в элементах = 256 * 40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ons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ataSize = N *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izeof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;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размер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вектора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в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бай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cudaError_t errCode;</a:t>
            </a:r>
            <a:r>
              <a:rPr b="0" i="1" lang="en-US" sz="2000" spc="-1" strike="noStrike">
                <a:solidFill>
                  <a:srgbClr val="2db33a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2db33a"/>
                </a:solidFill>
                <a:latin typeface="Arial"/>
                <a:ea typeface="Arial"/>
              </a:rPr>
              <a:t>// </a:t>
            </a:r>
            <a:r>
              <a:rPr b="0" i="1" lang="ru-RU" sz="2000" spc="-1" strike="noStrike">
                <a:solidFill>
                  <a:srgbClr val="2db33a"/>
                </a:solidFill>
                <a:latin typeface="Arial"/>
                <a:ea typeface="Arial"/>
              </a:rPr>
              <a:t>Для получения кода ошиб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1" i="1" lang="ru-RU" sz="20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Код программы ядра для </a:t>
            </a:r>
            <a:r>
              <a:rPr b="1" i="1" lang="en-US" sz="2000" spc="-1" strike="noStrike" u="sng">
                <a:solidFill>
                  <a:srgbClr val="00b050"/>
                </a:solidFill>
                <a:uFillTx/>
                <a:latin typeface="Arial"/>
                <a:ea typeface="Arial"/>
              </a:rPr>
              <a:t>G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Попарное сложение элементов вектор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один 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CUDA-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поток выполняет сложение одной пары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global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__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vo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vectorAd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loa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*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V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loa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*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rc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loa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*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rc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вычисление индекса складываемых элементов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d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ckDi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ckId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eadId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вычисление результата: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V[ idx ] = srcA[ idx ] + srcB[ idx 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ain( argc, argv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// 1.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Выделение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памяти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CP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*h_A =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*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malloc( dataSiz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*h_B =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*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malloc( dataSiz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*h_C =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floa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*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malloc( dataSize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//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2.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Инициализировать векторы h_A[]</a:t>
            </a:r>
            <a:r>
              <a:rPr b="0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b050"/>
                </a:solidFill>
                <a:latin typeface="Arial"/>
                <a:ea typeface="Arial"/>
              </a:rPr>
              <a:t>и h_B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3"/>
          <p:cNvSpPr/>
          <p:nvPr/>
        </p:nvSpPr>
        <p:spPr>
          <a:xfrm>
            <a:off x="8459640" y="115920"/>
            <a:ext cx="576360" cy="57636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04:50:28Z</dcterms:created>
  <dc:creator>Lector</dc:creator>
  <dc:description/>
  <dc:language>en-US</dc:language>
  <cp:lastModifiedBy>Учетная запись Майкрософт</cp:lastModifiedBy>
  <dcterms:modified xsi:type="dcterms:W3CDTF">2024-10-23T12:04:40Z</dcterms:modified>
  <cp:revision>140</cp:revision>
  <dc:subject/>
  <dc:title>Параллельное программирование</dc:title>
</cp:coreProperties>
</file>