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FD1B-024B-486B-AB3A-26823F1E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E72-B895-4778-BD48-BAD378D7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5884-B4C0-4B2C-B2ED-D8D5F3EF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E10-1A15-4A8E-8B77-733DFAC3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90CE-D0D0-4A4D-9BCC-C5A1F098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DEC2-C0D2-47A5-8BA3-87785A49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8E82-0E15-42F8-B167-2E98AEB5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AFB0-D07B-4C66-AA97-514538EF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1F13-9C9B-47B5-9861-A5FDEB90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1843-2654-4B8D-9063-8E97986B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779D-B098-46B0-9D9B-A2F4A971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03AA-03C0-44FF-882B-563841F6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7578-1BA6-4FB6-B87D-F0F49F05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D9C4-F561-4366-82D3-B8507E07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FD13-2BA7-414C-B4CD-9D6DE4E9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637E-C602-4BED-8757-9378EC26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2A8E-B4CB-4088-A41D-BA487599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9ED-4687-486D-B174-D8D6E778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B3B-91FC-4CDF-85E7-33653B09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C07-CC54-4A9D-8C95-B2EA7C97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9C9F-39FF-4DDD-B6F7-0B7A7E05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B0E-0D19-4241-8C6C-ACA4BE6C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24BA-16C0-4B90-AEF2-C0065CBA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6A6C-EB1B-47BD-BB5A-8C31731A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AF91-0B8B-4D93-AD4A-9901D0BC6B85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DAEF-4841-4804-AFB6-BFBCAE6547B9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43920"/>
            <a:ext cx="736920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роцедурная реализация рекурсивного спуска (1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1700280"/>
            <a:ext cx="8785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71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м считать, что имеется глобальная переменна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urrentLexe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редназначенная для хранения очередного терминального символа входной цепочки.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71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тся также функция чтения очередного символа из этой цепоч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GetLexem(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о существу – лексический анализатор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71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перациях сравнения текущей лексемы для элементов множеств выбора правил будем использовать обо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#имя_терминала#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апример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en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71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ственно рекурсивный синтаксический акцептор – это функц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RecurciveDescent(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озвращающая логическое значение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если входное предложение правильно,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 противном случае)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692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История работы для предложения </a:t>
            </a:r>
            <a:r>
              <a:rPr b="0" i="1" lang="ru-RU" sz="3800" spc="-1" strike="noStrike">
                <a:solidFill>
                  <a:srgbClr val="000000"/>
                </a:solidFill>
                <a:latin typeface="Arial"/>
              </a:rPr>
              <a:t>( x +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ru-RU" sz="3800" spc="-1" strike="noStrike">
                <a:solidFill>
                  <a:srgbClr val="000000"/>
                </a:solidFill>
                <a:latin typeface="Arial"/>
              </a:rPr>
              <a:t> ) *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ru-RU" sz="3800" spc="-1" strike="noStrike">
                <a:solidFill>
                  <a:srgbClr val="000000"/>
                </a:solidFill>
                <a:latin typeface="Wingdings 3"/>
                <a:ea typeface="Wingdings 3"/>
              </a:rPr>
              <a:t>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8000" y="1905120"/>
          <a:ext cx="8928000" cy="3809880"/>
        </p:xfrm>
        <a:graphic>
          <a:graphicData uri="http://schemas.openxmlformats.org/drawingml/2006/table">
            <a:tbl>
              <a:tblPr/>
              <a:tblGrid>
                <a:gridCol w="558720"/>
                <a:gridCol w="558720"/>
                <a:gridCol w="555840"/>
                <a:gridCol w="558720"/>
                <a:gridCol w="558720"/>
                <a:gridCol w="558720"/>
                <a:gridCol w="555840"/>
                <a:gridCol w="558720"/>
                <a:gridCol w="558720"/>
                <a:gridCol w="558720"/>
                <a:gridCol w="555840"/>
                <a:gridCol w="558720"/>
                <a:gridCol w="558720"/>
                <a:gridCol w="559080"/>
                <a:gridCol w="555480"/>
                <a:gridCol w="558720"/>
              </a:tblGrid>
              <a:tr h="43668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70920"/>
            <a:ext cx="772812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втоматная реализация нисходящего разбора. Структура стекового автомата с несколькими состоя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335556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втомат име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дномерную управляющую таблицу с клеткам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одержащими несколько по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екущее состоя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екущий входной симво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тек для хранения номеров состоя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втомат стартует в состоянии 0, на входе в этот момент первый терминал из входной цепо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любой момент по текущему терминалу и содержимому полей текущего состояния определяется возможность и способ перехода в следующее состояние (а также номер этого состояния), переход к следующему терминалу, и, возможно, модифицируется содержимое ст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станов автомата в специально выделенном состоянии свидетельствует о том, что входная цепочка является правильным предложением, в любом другом состоянии – что в цепочке ошиб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124000" y="1844640"/>
            <a:ext cx="6335640" cy="3240000"/>
            <a:chOff x="2124000" y="1844640"/>
            <a:chExt cx="6335640" cy="3240000"/>
          </a:xfrm>
        </p:grpSpPr>
        <p:sp>
          <p:nvSpPr>
            <p:cNvPr id="112" name=""/>
            <p:cNvSpPr/>
            <p:nvPr/>
          </p:nvSpPr>
          <p:spPr>
            <a:xfrm>
              <a:off x="2557440" y="2298600"/>
              <a:ext cx="25923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Текущий терминал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46800" y="2523960"/>
              <a:ext cx="1689120" cy="145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Автомат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24000" y="1844640"/>
              <a:ext cx="352908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Входная цепочка терминалов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81800" y="234792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557080" y="2347920"/>
              <a:ext cx="30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75120" y="2741400"/>
              <a:ext cx="1104840" cy="54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Текущее состояние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76720" y="2995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10280" y="4098960"/>
              <a:ext cx="444600" cy="7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10280" y="4098960"/>
              <a:ext cx="444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10280" y="458316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40320" y="397332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07280" y="4508280"/>
              <a:ext cx="1152360" cy="576360"/>
            </a:xfrm>
            <a:prstGeom prst="wedgeRectCallout">
              <a:avLst>
                <a:gd name="adj1" fmla="val -114185"/>
                <a:gd name="adj2" fmla="val -789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Стек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состояний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6800" y="2701800"/>
              <a:ext cx="88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46800" y="2890800"/>
              <a:ext cx="88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13560" y="2520720"/>
              <a:ext cx="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79960" y="2520720"/>
              <a:ext cx="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46720" y="2520720"/>
              <a:ext cx="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57440" y="21319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7407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став клетки управляющей таблицы стекового автомата с несколькими состоя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3905280"/>
            <a:ext cx="8675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от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cep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 если этот флажок установлен, то перед переходом из этого состояния нужно прочитать следующий терминал из входной цепоч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ck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еред переходом из этого состояния номер следующего (номер текущего +1) должен быть занесен в ст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turn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адрес перехода должен быть снят с верхушки сте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ror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одавить останов по ошиб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2781360"/>
          <a:ext cx="8496360" cy="911160"/>
        </p:xfrm>
        <a:graphic>
          <a:graphicData uri="http://schemas.openxmlformats.org/drawingml/2006/table">
            <a:tbl>
              <a:tblPr/>
              <a:tblGrid>
                <a:gridCol w="3166920"/>
                <a:gridCol w="432000"/>
                <a:gridCol w="433440"/>
                <a:gridCol w="431640"/>
                <a:gridCol w="431640"/>
                <a:gridCol w="1729080"/>
                <a:gridCol w="187164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ножество выбора состояния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лажки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рес перехода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95280" y="1844640"/>
            <a:ext cx="8497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бло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Вебтранслабе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…SyntAsMultiFSM…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 одной клетки управляющей таблицы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43920"/>
            <a:ext cx="736920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роцедурная реализация рекурсивного спуска (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1628640"/>
            <a:ext cx="9036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boo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RecurciveDescent() {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urrentLexem = GetLexem()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прочитать первый терминал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 S() == FALSE 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вызвать функцию S() для проверки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всего предложения до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EOF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End Of File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FALSE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станов по ошибке, есл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предложение неверно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 CurrentLexem != #EOF# )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после правильного предложения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не должно быть ничего, кроме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EOF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FALSE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если это не так – останов по ошибк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TRUE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предложение правильное, останов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43920"/>
            <a:ext cx="736920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роцедурная реализация рекурсивного спуска (3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1773360"/>
            <a:ext cx="9036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boo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S() {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 U() == FALSE 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вызываем функцию разбора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цепочки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ALS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выводимой из нетерминала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и останавливаемся, если о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бнаружила ошибку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 R() == FALSE 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аналогично для нетерминала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ALSE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E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//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разбор цепочки, выводимой из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нетерминала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 завершен успешно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43920"/>
            <a:ext cx="736920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роцедурная реализация рекурсивного спуска (4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1773360"/>
            <a:ext cx="9036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boo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U() {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 V() == FALSE 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вызываем функцию разбор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FALSE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нетерминала V 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станавливаемся, если о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бнаружила ошибку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W()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возвращаем то, что вернет функция W(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43920"/>
            <a:ext cx="736920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роцедурная реализация рекурсивного спуска (5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557360"/>
            <a:ext cx="90360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boo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R() {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 CurrentLexem == #+# )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чередной терминал входит в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множество выбора правила R : +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urrentLexem = GetLexem()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прочитаем следующи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S()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и вернем то, что вернет функция S(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 ( CurrentLexem == #)# ) ||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чередной терминал входит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 CurrentLexem == #EOF# ) )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в множество выбора R : </a:t>
            </a:r>
            <a:r>
              <a:rPr b="1" i="1" lang="ru-RU" sz="2400" spc="-1" strike="noStrike">
                <a:solidFill>
                  <a:srgbClr val="008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применяем это правило, т. е. н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делаем ничего и возвращаемся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FALSE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чередной терминал не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входит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ни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в одно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множество выбора, поэтому останов по ошибк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43920"/>
            <a:ext cx="736920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роцедурная реализация рекурсивного спуска (6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557360"/>
            <a:ext cx="90360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boo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) {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 CurrentLexem == #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# )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чередной терминал входит в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множество выбора правила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W : * U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urrentLexem = GetLexem()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прочитаем следующи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)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и вернем то, что вернет функция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(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 ( CurrentLexem == #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# ) ||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чередной терминал входит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 CurrentLexem == #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# 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в множество выбора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W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 : </a:t>
            </a:r>
            <a:r>
              <a:rPr b="1" i="1" lang="ru-RU" sz="2400" spc="-1" strike="noStrike">
                <a:solidFill>
                  <a:srgbClr val="008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 CurrentLexem == #EOF# ) 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//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правила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W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 : </a:t>
            </a:r>
            <a:r>
              <a:rPr b="1" i="1" lang="ru-RU" sz="2400" spc="-1" strike="noStrike">
                <a:solidFill>
                  <a:srgbClr val="008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применяем это правило, т. е. н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делаем ничего и возвращаемся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FALSE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чередной терминал не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входит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ни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в одно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множество выбора, поэтому останов по ошибк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43920"/>
            <a:ext cx="736920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роцедурная реализация рекурсивного спуска (7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8000" y="1557360"/>
            <a:ext cx="90360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boo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V() {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switc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CurrentLexem)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здесь использована другая техник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проверки очередного терминал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#(# :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в этом случае должно применяться правило V : ( S 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urrentLexem = GetLexem();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прочитаем следующи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терминал из входной цепочк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 S() == FALSE 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вызовем S(), и если о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бнаружит ошибку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FALSE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то остановимся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а если ошибки не было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 CurrentLexem != #)# 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то очередным терминалом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должна быть скобка 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FALSE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если нет – остановимся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если да, действуем так же, как в случае правил V : i и V : c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43920"/>
            <a:ext cx="736920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роцедурная реализация рекурсивного спуска (8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1557360"/>
            <a:ext cx="90360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#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en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# 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это правило V : 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#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# 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это правило V : c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urrentLexem = GetLexem()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прочитаем следующий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терминал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break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и на выход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defaul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чередной терминал не входит ни в одно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множество выбор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FALSE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становимся по ошибк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TRUE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вернемся из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V()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 для продолжения разбор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5121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История работы для предложения </a:t>
            </a:r>
            <a:r>
              <a:rPr b="0" i="1" lang="ru-RU" sz="3800" spc="-1" strike="noStrike">
                <a:solidFill>
                  <a:srgbClr val="000000"/>
                </a:solidFill>
                <a:latin typeface="Arial"/>
              </a:rPr>
              <a:t>( x +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ru-RU" sz="3800" spc="-1" strike="noStrike">
                <a:solidFill>
                  <a:srgbClr val="000000"/>
                </a:solidFill>
                <a:latin typeface="Arial"/>
              </a:rPr>
              <a:t> ) *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ru-RU" sz="3800" spc="-1" strike="noStrike">
                <a:solidFill>
                  <a:srgbClr val="000000"/>
                </a:solidFill>
                <a:latin typeface="Wingdings 3"/>
                <a:ea typeface="Wingdings 3"/>
              </a:rPr>
              <a:t>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1905120"/>
          <a:ext cx="8856720" cy="4093920"/>
        </p:xfrm>
        <a:graphic>
          <a:graphicData uri="http://schemas.openxmlformats.org/drawingml/2006/table">
            <a:tbl>
              <a:tblPr/>
              <a:tblGrid>
                <a:gridCol w="1271520"/>
                <a:gridCol w="505080"/>
                <a:gridCol w="506160"/>
                <a:gridCol w="505080"/>
                <a:gridCol w="507960"/>
                <a:gridCol w="504720"/>
                <a:gridCol w="504720"/>
                <a:gridCol w="506520"/>
                <a:gridCol w="504720"/>
                <a:gridCol w="506520"/>
                <a:gridCol w="504720"/>
                <a:gridCol w="505080"/>
                <a:gridCol w="507960"/>
                <a:gridCol w="504720"/>
                <a:gridCol w="506520"/>
                <a:gridCol w="504720"/>
              </a:tblGrid>
              <a:tr h="368280">
                <a:tc>
                  <a:txBody>
                    <a:bodyPr lIns="18000" rIns="18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18000" rIns="18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18000" rIns="18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18000" rIns="18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к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04:29:17Z</dcterms:created>
  <dc:creator>Lector</dc:creator>
  <dc:description/>
  <dc:language>en-US</dc:language>
  <cp:lastModifiedBy>alex_m</cp:lastModifiedBy>
  <dcterms:modified xsi:type="dcterms:W3CDTF">2015-10-29T04:28:20Z</dcterms:modified>
  <cp:revision>169</cp:revision>
  <dc:subject/>
  <dc:title>Теория формальных языков и компиляторов</dc:title>
</cp:coreProperties>
</file>