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B98-B2C7-4815-AAA8-5216D9F5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104-95D6-4F22-BCF4-794A161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703-A1A5-4E91-82B6-A2A87DAB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28-741E-45A4-8217-7F13F50A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462-7BEE-4747-8A07-819083B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86E-DB3C-478A-A4DE-061241AD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9471-F06A-4B44-BDEA-6B9889BE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A9A0-FE1B-4A0A-829F-81002DD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F791-E679-4467-A47B-52DBA4B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A16C-9717-4709-A6B6-9D320AB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A025-5E57-4F87-AC9D-D92511F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3D3-FA5A-4FD5-923C-B771131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2271-D51A-4E3F-B599-8572B2B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EC9-9EE1-49E9-8D02-E6866B52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A0A-C56A-4579-8877-1CB2AD9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3809-7D34-4269-B36C-013B6A8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A098-BC86-4199-8D34-79246B53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0B1-7A93-409F-9EC1-B3D7BC38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535-74F3-4941-8BFF-A693D30A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816-72E4-4BB5-BA98-E2AC16F0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CF2-15B2-4141-A756-CFFAA52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52D-79FC-4093-941D-EB7BE8E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870-1653-4F68-837B-47A3B10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F57-9293-479A-AE3E-836FFF4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3E5-0591-436B-BB72-57873E3937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411-936D-4CBA-847B-1BDFE98D66F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 проблем восстановления дерева разбора восходящим автоматом с одним состоя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567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восходящего стекового автомата с одним состоянием не обеспечивает детерминированности принятия решения на каждом шаге процесса восстановления дерева разбора. Причины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3524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наруживаются конфликты типа «свертка/свертка», следовательно на некоторых шагах может быть обнаружена не та основа, по которой действительно требуется выполнять свер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3524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же если перебирать все конфликтующие правила – на данный момент неизвестен способ разрешения таких конфликтов, т.е. выбора одной основы для свертки из нескольк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3524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наруживаются конфликты типа «сдвиг/сверт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3524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, нет способа их раз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попытаться усовершенствовать этот автомат путем добавления действий по обнаружению и разрешению возникающих конфликтов во время восстановления дерева разбора конкретн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перспективен другой путь – предотвратить возникновение конфликтов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боты автомата за счет введения нескольких состояний и выполнения анализа конфликтных ситуаций до начала восстановления дерева разбора любого предложения, а именно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момент постро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го управляющей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47280" y="55440"/>
            <a:ext cx="741708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ь между конфигурация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ациями и состояниями восходящего автома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маркер в конфигурации находится после последнего символа правила, то в соответствующем этой конфигурации состоянии должна выполняться операция сверт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даляющая из сте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омеров состояний (ровно столько символов в правой части соответствующего правила), переключающая автомат в состояние, номер которого оказался на верхушке стека после этого удаления, и готовящая индекс столб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яющей таблицы для выполнения последующей опера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73160"/>
            <a:ext cx="7512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ь между конфигурация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ациями и состояниями восходящего автома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Если какому-либо состоянию автомата поставлена в соответствие конфигурация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▼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произвольные цепочки (например – конфигурация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▼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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, и для нетерминал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в грамматике есть правил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 этому же состоянию автомата соответствуют такие дочерние (или порожденные) конфигураци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▼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▼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ctr">
              <a:lnSpc>
                <a:spcPct val="7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▼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чевидно, что если в какой-либо (каких-либо) конфигурации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 ▼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аркер также находится перед нетерминалом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.е. цепочк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выглядит как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 все конфигурации вид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▼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должны соответствовать этому состоянию (и так далее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ормирование множества дочерних конфигураций называется замыканием родительской конфигур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1640" y="43920"/>
            <a:ext cx="78483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Преобразование грамматики в управляющую таблицу восходящего синтаксического акцептора (1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8360" y="2809800"/>
          <a:ext cx="8210160" cy="1092240"/>
        </p:xfrm>
        <a:graphic>
          <a:graphicData uri="http://schemas.openxmlformats.org/drawingml/2006/table">
            <a:tbl>
              <a:tblPr/>
              <a:tblGrid>
                <a:gridCol w="1478160"/>
                <a:gridCol w="1082160"/>
                <a:gridCol w="897480"/>
                <a:gridCol w="777600"/>
                <a:gridCol w="1912680"/>
                <a:gridCol w="1152720"/>
                <a:gridCol w="909360"/>
              </a:tblGrid>
              <a:tr h="546120"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гур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763640" y="1844640"/>
            <a:ext cx="59770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троение таблицы конфигурац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1440" indent="-1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уктура таблицы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68360" y="4815000"/>
          <a:ext cx="8210520" cy="1638360"/>
        </p:xfrm>
        <a:graphic>
          <a:graphicData uri="http://schemas.openxmlformats.org/drawingml/2006/table">
            <a:tbl>
              <a:tblPr/>
              <a:tblGrid>
                <a:gridCol w="1477800"/>
                <a:gridCol w="1082520"/>
                <a:gridCol w="897120"/>
                <a:gridCol w="777960"/>
                <a:gridCol w="1912680"/>
                <a:gridCol w="1152720"/>
                <a:gridCol w="909720"/>
              </a:tblGrid>
              <a:tr h="546120"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игур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619280" y="4167360"/>
            <a:ext cx="655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Шаг 1.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Формирование базы начального состояния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31640" y="43920"/>
            <a:ext cx="78483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Преобразование грамматики в управляющую таблицу восходящего синтаксического акцептора (2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24000" y="2484360"/>
          <a:ext cx="8065800" cy="3969000"/>
        </p:xfrm>
        <a:graphic>
          <a:graphicData uri="http://schemas.openxmlformats.org/drawingml/2006/table">
            <a:tbl>
              <a:tblPr/>
              <a:tblGrid>
                <a:gridCol w="1452240"/>
                <a:gridCol w="1062360"/>
                <a:gridCol w="882360"/>
                <a:gridCol w="763560"/>
                <a:gridCol w="1879920"/>
                <a:gridCol w="1131840"/>
                <a:gridCol w="893520"/>
              </a:tblGrid>
              <a:tr h="398880"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гур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8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: ▼ 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S 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1258920" y="1916280"/>
            <a:ext cx="69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Шаг 1.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Замыкание базового множества конфигураций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000280" y="3429000"/>
            <a:ext cx="862200" cy="79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160480" y="3429000"/>
            <a:ext cx="51660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07840" y="4294080"/>
            <a:ext cx="862920" cy="7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68400" y="4294080"/>
            <a:ext cx="5166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07840" y="5157720"/>
            <a:ext cx="8629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68400" y="5157720"/>
            <a:ext cx="51660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06320" y="5157720"/>
            <a:ext cx="1092960" cy="107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4" y="76"/>
                </a:moveTo>
                <a:arcTo wR="10800" hR="10800" stAng="-5807115" swAng="11553329"/>
                <a:lnTo>
                  <a:pt x="10800" y="10800"/>
                </a:lnTo>
                <a:close/>
              </a:path>
              <a:path fill="none" w="21600" h="21600">
                <a:moveTo>
                  <a:pt x="9524" y="76"/>
                </a:moveTo>
                <a:arcTo wR="10800" hR="10800" stAng="-5807115" swAng="11553329"/>
              </a:path>
            </a:pathLst>
          </a:custGeom>
          <a:noFill/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904760"/>
            <a:ext cx="785016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1.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разование новой б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ерется первая не отмеченная строка, в которой не пуста клетка «Символ» (если таких строк нет –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строение таблицы конфигураций законче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ерутся все конфигураци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анног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стояния, в которых маркер находится перед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точно таким ж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мволом, в колонку «отметка» этих строк заносится число (порядковый номер новой баз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ркеры в этих конфигурациях переносятся через один символ, тем самым образуется новая база (возможно – это база нового состояния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 : ▼ S </a:t>
            </a:r>
            <a:r>
              <a:rPr b="0" lang="ru-RU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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 : S ▼</a:t>
            </a:r>
            <a:r>
              <a:rPr b="0" lang="ru-RU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 : ▼ S + T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 : S ▼+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331640" y="43920"/>
            <a:ext cx="78483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Преобразование грамматики в управляющую таблицу восходящего синтаксического акцептора (3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536400" y="3068640"/>
          <a:ext cx="8139240" cy="3657600"/>
        </p:xfrm>
        <a:graphic>
          <a:graphicData uri="http://schemas.openxmlformats.org/drawingml/2006/table">
            <a:tbl>
              <a:tblPr/>
              <a:tblGrid>
                <a:gridCol w="1465560"/>
                <a:gridCol w="1073160"/>
                <a:gridCol w="888840"/>
                <a:gridCol w="771480"/>
                <a:gridCol w="1895400"/>
                <a:gridCol w="1143000"/>
                <a:gridCol w="901800"/>
              </a:tblGrid>
              <a:tr h="30528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гур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8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: ▼ 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S 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: S 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S ▼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31640" y="43920"/>
            <a:ext cx="78483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Преобразование грамматики в управляющую таблицу восходящего синтаксического акцептора (4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70028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 algn="ctr">
              <a:lnSpc>
                <a:spcPct val="80000"/>
              </a:lnSpc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Шаг 1.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Проверка наличия состояния с только что образованной базой.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состояние с точно такой же базой в таблице уже есть, то в колонку «Из» этого состояния добавляется номер того состояния, из конфигураций которого была образована новая база и выполняется возврат к шагу 1.3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3556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такого состояния нет, то оно добавляется и выполняется возврат к шагу 1.2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лица конфигураций грамматик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1916280"/>
          <a:ext cx="8353440" cy="4572000"/>
        </p:xfrm>
        <a:graphic>
          <a:graphicData uri="http://schemas.openxmlformats.org/drawingml/2006/table">
            <a:tbl>
              <a:tblPr/>
              <a:tblGrid>
                <a:gridCol w="1368360"/>
                <a:gridCol w="1089000"/>
                <a:gridCol w="1106640"/>
                <a:gridCol w="949320"/>
                <a:gridCol w="2211480"/>
                <a:gridCol w="631800"/>
                <a:gridCol w="996840"/>
              </a:tblGrid>
              <a:tr h="30528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гур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8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: ▼ 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S 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: S 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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S ▼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T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T ▼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4, 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36680" y="-316080"/>
            <a:ext cx="622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95280" y="1844640"/>
          <a:ext cx="8353440" cy="4876920"/>
        </p:xfrm>
        <a:graphic>
          <a:graphicData uri="http://schemas.openxmlformats.org/drawingml/2006/table">
            <a:tbl>
              <a:tblPr/>
              <a:tblGrid>
                <a:gridCol w="1224000"/>
                <a:gridCol w="1233360"/>
                <a:gridCol w="1106640"/>
                <a:gridCol w="949320"/>
                <a:gridCol w="2211480"/>
                <a:gridCol w="633240"/>
                <a:gridCol w="995400"/>
              </a:tblGrid>
              <a:tr h="305280">
                <a:tc rowSpan="8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4, 7, 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(▼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S 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▼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4, 7, 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i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4, 7, 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c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6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S +▼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лица конфигураций грамматик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468360" y="1905120"/>
          <a:ext cx="8280360" cy="3047760"/>
        </p:xfrm>
        <a:graphic>
          <a:graphicData uri="http://schemas.openxmlformats.org/drawingml/2006/table">
            <a:tbl>
              <a:tblPr/>
              <a:tblGrid>
                <a:gridCol w="1224000"/>
                <a:gridCol w="1211040"/>
                <a:gridCol w="1097280"/>
                <a:gridCol w="941040"/>
                <a:gridCol w="2192400"/>
                <a:gridCol w="627120"/>
                <a:gridCol w="987480"/>
              </a:tblGrid>
              <a:tr h="305280">
                <a:tc rowSpan="4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T *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▼ ( S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▼ 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( S ▼ 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S ▼+ 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: S + T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▼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 : T *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: ( S ) ▼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44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лица конфигураций грамматик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-27000"/>
            <a:ext cx="7812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ходящий автомат с несколькими состояниям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стеками символов и состоя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4000"/>
          </a:bodyPr>
          <a:p>
            <a:pPr marL="1080" indent="-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ек состояний вводится для того, чтобы при свертке обеспечивать возврат в то состояние, в котором автомат находился перед чтением первого символа основы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3284640"/>
            <a:ext cx="25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яния автомата вводятся для того, чтобы отслеживать движение по символам основы и обнаруживать факт занесения последнего символа основы в стек символо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54400" y="5732640"/>
            <a:ext cx="8636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Основ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7840" y="1700280"/>
            <a:ext cx="8931240" cy="4336920"/>
            <a:chOff x="177840" y="1700280"/>
            <a:chExt cx="8931240" cy="4336920"/>
          </a:xfrm>
        </p:grpSpPr>
        <p:sp>
          <p:nvSpPr>
            <p:cNvPr id="96" name=""/>
            <p:cNvSpPr/>
            <p:nvPr/>
          </p:nvSpPr>
          <p:spPr>
            <a:xfrm>
              <a:off x="7877160" y="4076640"/>
              <a:ext cx="123192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235" y="15618"/>
                  </a:moveTo>
                  <a:lnTo>
                    <a:pt x="0" y="3812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Стек 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состояний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83640" y="2060640"/>
              <a:ext cx="1152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Текущее состояние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4560" y="2347920"/>
              <a:ext cx="115272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Терминал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4560" y="3297240"/>
              <a:ext cx="15112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Times New Roman"/>
                </a:rPr>
                <a:t>Нетерминал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14560" y="5229360"/>
              <a:ext cx="25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840" y="1700280"/>
              <a:ext cx="40989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едложение: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80000" y="1925640"/>
              <a:ext cx="2014560" cy="1963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втомат с несколькими состояниями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75400" y="4437000"/>
              <a:ext cx="0" cy="147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75400" y="5925960"/>
              <a:ext cx="67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346800" y="4437000"/>
              <a:ext cx="0" cy="147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5400" y="4989600"/>
              <a:ext cx="67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08760" y="3884760"/>
              <a:ext cx="0" cy="9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27640" y="2995560"/>
              <a:ext cx="1150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8000" y="5486400"/>
              <a:ext cx="64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14560" y="3083040"/>
              <a:ext cx="0" cy="211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33840" y="5025960"/>
              <a:ext cx="10792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вертка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03960" y="4984920"/>
              <a:ext cx="215640" cy="4921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2600 h 492120"/>
                <a:gd name="textAreaBottom" fmla="*/ 47952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32480" y="2774880"/>
              <a:ext cx="80316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двиг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292428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13040" y="1700280"/>
              <a:ext cx="860400" cy="488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8760" y="1700280"/>
              <a:ext cx="215640" cy="488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4400" y="1700280"/>
              <a:ext cx="1295640" cy="488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4560" y="2189160"/>
              <a:ext cx="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4560" y="3068640"/>
              <a:ext cx="36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7360" y="4005360"/>
              <a:ext cx="17272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571" y="39352"/>
                  </a:moveTo>
                  <a:lnTo>
                    <a:pt x="21600" y="8938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Стек символов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2200" y="5805360"/>
              <a:ext cx="0" cy="2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002200" y="5229000"/>
              <a:ext cx="43344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62560" y="4005360"/>
              <a:ext cx="0" cy="2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78560" y="2995560"/>
              <a:ext cx="414360" cy="88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8840" y="2131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8840" y="2347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8840" y="2563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57920" y="1916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45200" y="1916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2480" y="19162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4920" y="2708280"/>
              <a:ext cx="11527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Текущий символ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594200" y="2131920"/>
              <a:ext cx="289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0560" y="1700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0560" y="1700280"/>
              <a:ext cx="15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38920" y="1700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1520" y="4444920"/>
              <a:ext cx="0" cy="147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1520" y="5925960"/>
              <a:ext cx="671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523280" y="4444920"/>
              <a:ext cx="0" cy="147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1520" y="4997520"/>
              <a:ext cx="671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84880" y="3892680"/>
              <a:ext cx="0" cy="9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85080" y="4102200"/>
              <a:ext cx="0" cy="2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80000" y="2997360"/>
              <a:ext cx="1584360" cy="86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вижение восходящего автомата с несколькими состояниями по осно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5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ет начальное состояние (состояние № 0), соответствующее позиции автомата перед основ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авил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запуске номер начального состояния заносится в стек состоя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некоторое правило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движение автомата по этому правилу, т.е. формировани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еке символов путем выполнения операций сдвиг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ждой та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ерации теперь должно быть яв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но, в какое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т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1120" y="4062240"/>
            <a:ext cx="7707240" cy="2697480"/>
            <a:chOff x="681120" y="4062240"/>
            <a:chExt cx="7707240" cy="2697480"/>
          </a:xfrm>
        </p:grpSpPr>
        <p:sp>
          <p:nvSpPr>
            <p:cNvPr id="146" name=""/>
            <p:cNvSpPr/>
            <p:nvPr/>
          </p:nvSpPr>
          <p:spPr>
            <a:xfrm>
              <a:off x="3994200" y="574992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200" y="4078440"/>
              <a:ext cx="50328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11280" y="4078440"/>
              <a:ext cx="50328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7280" y="4078440"/>
              <a:ext cx="50328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07280" y="4062240"/>
              <a:ext cx="50328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8920" y="432576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4560" y="43354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0560" y="432756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0920" y="43178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19280" y="4334040"/>
              <a:ext cx="287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1840" y="4334040"/>
              <a:ext cx="28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88000" y="4317840"/>
              <a:ext cx="28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8560" y="6083280"/>
              <a:ext cx="502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86200" y="607536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86200" y="640080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38560" y="6411960"/>
              <a:ext cx="50292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38560" y="5651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3280" y="5651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86200" y="5651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0920" y="5651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0200" y="640080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6411960"/>
              <a:ext cx="50328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120" y="5651640"/>
              <a:ext cx="1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77920" y="5651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0200" y="5651640"/>
              <a:ext cx="18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35280" y="5651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4200" y="608328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1840" y="607536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1840" y="640080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94200" y="6411960"/>
              <a:ext cx="50328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94200" y="5310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8920" y="5310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41840" y="5310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6560" y="5310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1840" y="574200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6000" y="5742000"/>
              <a:ext cx="50292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6000" y="6075360"/>
              <a:ext cx="502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83640" y="606744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3640" y="639288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6000" y="6404040"/>
              <a:ext cx="50292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6000" y="46544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0720" y="46544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3640" y="46544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8360" y="46544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3640" y="573408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6000" y="5407200"/>
              <a:ext cx="502920" cy="33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83640" y="539892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6000" y="5070600"/>
              <a:ext cx="502920" cy="33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3640" y="5070600"/>
              <a:ext cx="503280" cy="33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4108320"/>
              <a:ext cx="503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4149720"/>
              <a:ext cx="36036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4000" y="4173480"/>
              <a:ext cx="36036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05440" y="4149720"/>
              <a:ext cx="36036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ерация свертки над двумя сте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920" y="162828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т момент, когда автомат перешел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стеке  символов совершенно точно находится основа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нужно выполнять операцию свертк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k,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мающую п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лементов с каждого стека, переключающую автомат в 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омер которого остался на верхушке стека состояний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ющую на его входе симв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последующего сдви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впадает с состояни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11280" y="2852640"/>
            <a:ext cx="5040360" cy="2697480"/>
            <a:chOff x="2411280" y="2852640"/>
            <a:chExt cx="5040360" cy="2697480"/>
          </a:xfrm>
        </p:grpSpPr>
        <p:sp>
          <p:nvSpPr>
            <p:cNvPr id="202" name=""/>
            <p:cNvSpPr/>
            <p:nvPr/>
          </p:nvSpPr>
          <p:spPr>
            <a:xfrm>
              <a:off x="5578560" y="2868480"/>
              <a:ext cx="50328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14560" y="2852640"/>
              <a:ext cx="50328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54560" y="519120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05480" y="5202000"/>
              <a:ext cx="50328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6920" y="44528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0200" y="44416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4560" y="4441680"/>
              <a:ext cx="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9640" y="44416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3280" y="453204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3280" y="486576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0920" y="485748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0920" y="5191200"/>
              <a:ext cx="50328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3280" y="5194080"/>
              <a:ext cx="50328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3444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0080" y="3444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0920" y="3444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5640" y="3444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90920" y="452412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19724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0920" y="418932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43280" y="386856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ŝ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90920" y="3860640"/>
              <a:ext cx="503280" cy="33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3876480"/>
              <a:ext cx="647640" cy="576360"/>
            </a:xfrm>
            <a:prstGeom prst="rightArrow">
              <a:avLst>
                <a:gd name="adj1" fmla="val 50000"/>
                <a:gd name="adj2" fmla="val 28092"/>
              </a:avLst>
            </a:prstGeom>
            <a:noFill/>
            <a:ln w="255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1280" y="31096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4720" y="310968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88000" y="303192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948360" y="2949480"/>
            <a:ext cx="36036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x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2000" y="43920"/>
            <a:ext cx="78120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ходящий автомат с несколькими состояниям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стеком состоя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584360"/>
            <a:ext cx="799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4000"/>
          </a:bodyPr>
          <a:p>
            <a:pPr marL="1080" indent="-1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чного определения порядка выполнения операций сдвига и свертки оказывается, что стек символов в действительности не нужен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7840" y="2421000"/>
            <a:ext cx="8858160" cy="4103640"/>
            <a:chOff x="177840" y="2421000"/>
            <a:chExt cx="8858160" cy="4103640"/>
          </a:xfrm>
        </p:grpSpPr>
        <p:sp>
          <p:nvSpPr>
            <p:cNvPr id="232" name=""/>
            <p:cNvSpPr/>
            <p:nvPr/>
          </p:nvSpPr>
          <p:spPr>
            <a:xfrm>
              <a:off x="7380360" y="4601880"/>
              <a:ext cx="129708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059" y="22712"/>
                  </a:moveTo>
                  <a:lnTo>
                    <a:pt x="0" y="3812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Стек 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состояний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83640" y="2770200"/>
              <a:ext cx="1152360" cy="62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Текущее состояние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14560" y="3049560"/>
              <a:ext cx="115272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Терминал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00720" y="5805360"/>
              <a:ext cx="1655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840" y="2421000"/>
              <a:ext cx="409896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едложение: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0000" y="2639880"/>
              <a:ext cx="2014560" cy="1906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втомат с несколькими состояниями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56000" y="3644640"/>
              <a:ext cx="12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2480" y="3465360"/>
              <a:ext cx="80316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двиг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16360" y="3644640"/>
              <a:ext cx="28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13040" y="2421000"/>
              <a:ext cx="860400" cy="474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760" y="2421000"/>
              <a:ext cx="215640" cy="474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84400" y="2421000"/>
              <a:ext cx="1295640" cy="474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14560" y="2895480"/>
              <a:ext cx="1800" cy="74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0000" y="3644640"/>
              <a:ext cx="1008000" cy="863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8840" y="28400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68840" y="30495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68840" y="3259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57920" y="2630160"/>
              <a:ext cx="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45200" y="2630160"/>
              <a:ext cx="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2480" y="2630160"/>
              <a:ext cx="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03640" y="3400200"/>
              <a:ext cx="1152360" cy="62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Текущий символ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594200" y="2840040"/>
              <a:ext cx="28908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00720" y="242100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00720" y="2421000"/>
              <a:ext cx="165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938920" y="2421000"/>
              <a:ext cx="21744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76960" y="5086080"/>
              <a:ext cx="0" cy="1429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76960" y="6524640"/>
              <a:ext cx="67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948360" y="5086080"/>
              <a:ext cx="0" cy="1429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76960" y="5599080"/>
              <a:ext cx="67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10320" y="4549680"/>
              <a:ext cx="0" cy="89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80360" y="4652640"/>
              <a:ext cx="0" cy="225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4880" y="6021360"/>
              <a:ext cx="671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9280" y="5595840"/>
              <a:ext cx="109224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вертка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56360" y="5595840"/>
              <a:ext cx="144360" cy="433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1160 h 433080"/>
                <a:gd name="textAreaBottom" fmla="*/ 42192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59320" y="361152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50920" y="3789360"/>
            <a:ext cx="252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ы                  (и терминалы и нетерминалы) заменяются индексами колонок управляющей таблицы, поставленных им в соответстви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440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ерации восходящего автомата с несколькими состояниями и стеком состоя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j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тение следующего входного символ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несение номера состояния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в стек состоя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реключение автомата в состояни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ереход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j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несение номера состояния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в стек состоя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реключение автомата в состояни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вертк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 стека состояний сбрасывается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омеров состоя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екущим устанавливается состояние, номер которого оказался на верхушке сте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качестве текущей колонки УТ устанавливается колонк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омером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то любая пустая клетка управляющей таблицы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ерь можно задаться вопросом: а как сформировать управляющую таблицу восходящего авто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47280" y="55440"/>
            <a:ext cx="741708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нятие конфигу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69840" y="1976040"/>
            <a:ext cx="7994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есть правил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им маркером ▼ все возможные положения восходящего автомата в этом прави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+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+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ая такая запись и наз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фигур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у, имеюще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мволов в правой части, соответствует в точ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х конфигу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47280" y="55440"/>
            <a:ext cx="741708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ь между конфигурация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ациями и состояниями восходящего автома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ждому состоянию восходящего автомата соответствует одна или несколько конфигураций. В частности, состоянию 0 всегда соответствует такая конфигурация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коро выяснится, что не только она одн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в некоторой конфигурации маркер находится перед терминалом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, то в состоянии номер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ому соответствует эта конфигурация, должна выполняться операц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существляющая переключение автомата в такое состояни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ому соответствует конфигурация с маркером, размещенным после этого терминал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▼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к этой операции должен находиться в той клетке управляющей таблицы, которая расположена на пересечении строки состоян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 столбцом, помеченным терминальным симво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ли индексом этого термина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4782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87280" y="4862520"/>
            <a:ext cx="6193080" cy="584280"/>
            <a:chOff x="1187280" y="4862520"/>
            <a:chExt cx="6193080" cy="584280"/>
          </a:xfrm>
        </p:grpSpPr>
        <p:sp>
          <p:nvSpPr>
            <p:cNvPr id="276" name=""/>
            <p:cNvSpPr/>
            <p:nvPr/>
          </p:nvSpPr>
          <p:spPr>
            <a:xfrm>
              <a:off x="2916360" y="4862520"/>
              <a:ext cx="43164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3640" y="486252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48000" y="507852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6000" y="4879800"/>
              <a:ext cx="432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7280" y="50785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…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▼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…}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64000" y="50785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…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…}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55440"/>
            <a:ext cx="741708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ь между конфигурация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ациями и состояниями восходящего автома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в некоторой конфигурации маркер находится перед нетерминалом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, то в состоянии номер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ому соответствует эта конфигурация, должна выполняться операц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существляющая переключение автомата в такое состояни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ому соответствует конфигурация с маркером, размещенным после этого нетерминал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▼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556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к этой операции должен находиться в той клетке управляющей таблицы, которая расположена на пересечении строки состоян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 столбцом, помеченным нетерминальным симво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или индексом этого нетермина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116000" y="3789360"/>
            <a:ext cx="6264360" cy="663480"/>
            <a:chOff x="1116000" y="3789360"/>
            <a:chExt cx="6264360" cy="663480"/>
          </a:xfrm>
        </p:grpSpPr>
        <p:sp>
          <p:nvSpPr>
            <p:cNvPr id="285" name=""/>
            <p:cNvSpPr/>
            <p:nvPr/>
          </p:nvSpPr>
          <p:spPr>
            <a:xfrm>
              <a:off x="2916360" y="3868560"/>
              <a:ext cx="43164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03640" y="3868560"/>
              <a:ext cx="43200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48000" y="40845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2920" y="3886200"/>
              <a:ext cx="505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n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5280" y="3789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16000" y="40845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…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▼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…}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4000" y="40845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…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…}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4:29:17Z</dcterms:created>
  <dc:creator>Lector</dc:creator>
  <dc:description/>
  <dc:language>en-US</dc:language>
  <cp:lastModifiedBy>alex_m</cp:lastModifiedBy>
  <dcterms:modified xsi:type="dcterms:W3CDTF">2013-11-18T05:04:13Z</dcterms:modified>
  <cp:revision>177</cp:revision>
  <dc:subject/>
  <dc:title>Системное программное обеспечение. Методы трансляции</dc:title>
</cp:coreProperties>
</file>