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F48-13D4-4D8A-B2EF-2352AE53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68CD-0153-4C97-8728-933947EF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F440-D43F-44A6-AB76-C7269C8F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C607-4515-40A2-9868-F86477C9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ADEC-9AC2-4463-8BA1-BE0FDE2A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46B7-DC34-49EA-AF3B-6FF14AE5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49FA-5C00-4251-AB78-FA363F99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153E-4EBF-4365-A0C1-ABB02257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6F6A-DD46-4BC2-9E6C-1F1E0905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3106-AC0D-4301-9F5B-41DC3B56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A9CE-AD56-4C92-9D16-3662A6A5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C340-E962-4BC5-97B5-1B317EE6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19D0-2499-4511-B9B5-10CEEDB0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82F2-669B-4D62-AD84-91C70C87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2589-A079-47CF-BF0C-BD793CB7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1EE0-125A-4D68-809B-FCF6B680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F9CB-D548-4FAA-8EC3-E2F29AB1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9024-2515-4073-908A-32731EB9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122A-75B6-4AE3-9E97-C50234E9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D1D7-7871-4954-914F-5BCB80B8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4B23-A40F-486F-B489-4CD4AFE5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0D6C-FA99-4F04-903C-F61055CC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F63-26CD-42E1-BF40-1FCD85E5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1236-B1EC-42F4-AD21-FB5D1F47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289E-862B-476F-9AFA-E7C6CE42E31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ED2A-D9D0-47C5-80D7-F97D6C5EA0E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43920"/>
            <a:ext cx="736920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роцедурная реализация рекурсивного спуска (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1628640"/>
            <a:ext cx="9036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boo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RecurciveDescent() {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CurrentLexem = GetLexem()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прочитать первый терминал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 S() == FALSE 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вызвать функцию S() для проверки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всего предложения до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EOF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End Of File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FALSE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останов по ошибке, есл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предложение неверно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 CurrentLexem != #EOF# )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после правильного предложения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не должно быть ничего, кроме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EOF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FALSE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если это не так – останов по ошибк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TRUE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предложение правильное, останов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2920" y="70920"/>
            <a:ext cx="772812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втоматная реализация нисходящего разбора. Структура стекового автомата с несколькими состоя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3355560"/>
            <a:ext cx="914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втомат име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дномерную управляющую таблицу с клеткам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одержащими несколько по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екущее состоя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екущий входной симво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тек для хранения номеров состоя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втомат стартует в состоянии 0, на входе в этот момент первый терминал из входной цепо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любой момент по текущему терминалу и содержимому полей текущего состояния определяется возможность и способ перехода в следующее состояние (а также номер этого состояния), переход к следующему терминалу, и, возможно, модифицируется содержимое ст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станов автомата в специально выделенном состоянии свидетельствует о том, что входная цепочка является правильным предложением, в любом другом состоянии – что в цепочке ошиб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124000" y="1844640"/>
            <a:ext cx="6335640" cy="3240000"/>
            <a:chOff x="2124000" y="1844640"/>
            <a:chExt cx="6335640" cy="3240000"/>
          </a:xfrm>
        </p:grpSpPr>
        <p:sp>
          <p:nvSpPr>
            <p:cNvPr id="110" name=""/>
            <p:cNvSpPr/>
            <p:nvPr/>
          </p:nvSpPr>
          <p:spPr>
            <a:xfrm>
              <a:off x="2557440" y="2298600"/>
              <a:ext cx="25923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Текущий терминал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46800" y="2523960"/>
              <a:ext cx="1689120" cy="145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Автомат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4000" y="1844640"/>
              <a:ext cx="352908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Входная цепочка терминалов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81800" y="234792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557080" y="2347920"/>
              <a:ext cx="30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75120" y="2741400"/>
              <a:ext cx="1104840" cy="54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Текущее состояние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76720" y="2995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10280" y="4098960"/>
              <a:ext cx="444600" cy="7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10280" y="4098960"/>
              <a:ext cx="444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10280" y="458316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40320" y="397332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07280" y="4508280"/>
              <a:ext cx="1152360" cy="576360"/>
            </a:xfrm>
            <a:prstGeom prst="wedgeRectCallout">
              <a:avLst>
                <a:gd name="adj1" fmla="val -114185"/>
                <a:gd name="adj2" fmla="val -789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Стек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состояний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6800" y="2701800"/>
              <a:ext cx="88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46800" y="2890800"/>
              <a:ext cx="88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3560" y="2520720"/>
              <a:ext cx="0" cy="4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79960" y="2520720"/>
              <a:ext cx="0" cy="4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46720" y="2520720"/>
              <a:ext cx="0" cy="4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57440" y="21319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7407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став клетки управляющей таблицы стекового автомата с несколькими состоя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000" y="3905280"/>
            <a:ext cx="8675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от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cep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 если этот флажок установлен, то перед переходом из этого состояния нужно прочитать следующий терминал из входной цепоч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ck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еред переходом из этого состояния номер следующего (номер текущего +1) должен быть занесен в ст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turn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адрес перехода должен быть снят с верхушки сте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ror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одавить останов по ошиб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8360" y="2781360"/>
          <a:ext cx="8496360" cy="911160"/>
        </p:xfrm>
        <a:graphic>
          <a:graphicData uri="http://schemas.openxmlformats.org/drawingml/2006/table">
            <a:tbl>
              <a:tblPr/>
              <a:tblGrid>
                <a:gridCol w="3166920"/>
                <a:gridCol w="432000"/>
                <a:gridCol w="433440"/>
                <a:gridCol w="431640"/>
                <a:gridCol w="431640"/>
                <a:gridCol w="1729080"/>
                <a:gridCol w="187164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ножество выбора состояния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лажки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рес перехода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95280" y="1844640"/>
            <a:ext cx="8497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бло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Вебтранслабе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…SyntAsMultiFSM…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 одной клетки управляющей таблицы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520" y="-27360"/>
            <a:ext cx="76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цедура преобразования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L(1)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мматики в управляющую таблицу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FSM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24000" y="2276640"/>
          <a:ext cx="2303280" cy="4035240"/>
        </p:xfrm>
        <a:graphic>
          <a:graphicData uri="http://schemas.openxmlformats.org/drawingml/2006/table">
            <a:tbl>
              <a:tblPr/>
              <a:tblGrid>
                <a:gridCol w="431640"/>
                <a:gridCol w="1871640"/>
              </a:tblGrid>
              <a:tr h="359640"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ка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2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1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2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3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+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4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6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18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9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* 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2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3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0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7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8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9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0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1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50920" y="1700280"/>
            <a:ext cx="86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Шаг 1: нумерация символов грамматики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71640" y="2205000"/>
            <a:ext cx="6372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2840" indent="-31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онец каждой правой части дописывается обозначение пустой цепочки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12840" indent="-31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ила нумерации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12840" indent="-31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мвол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иле 0 должен получить номер 0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12840" indent="-31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мволы правых частей правил (в том числе обозначения добавленных пустых цепочек) должны получить последовательно возрастающие номера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12840" indent="-31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инаковые нетерминалы в левых частях правил тоже должны получить последовательно возрастающие номера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12840" indent="-31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Вебтранслабе в целях оптимизации символы нумеруются немного не так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520" y="-27360"/>
            <a:ext cx="76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цедура преобразования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L(1)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мматики в управляющую таблицу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leFSM 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24000" y="2276640"/>
          <a:ext cx="2303280" cy="4035240"/>
        </p:xfrm>
        <a:graphic>
          <a:graphicData uri="http://schemas.openxmlformats.org/drawingml/2006/table">
            <a:tbl>
              <a:tblPr/>
              <a:tblGrid>
                <a:gridCol w="431640"/>
                <a:gridCol w="1871640"/>
              </a:tblGrid>
              <a:tr h="359640"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ка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2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1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2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3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+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4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6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18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9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* 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2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3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0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7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8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9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0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1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250920" y="1700280"/>
            <a:ext cx="86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Шаг 2: Формирование множеств выбора состояний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36720" y="2133720"/>
            <a:ext cx="64436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состояний, соответствующих нетерминалам из левых частей правил – это множество выбора данного правила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состояний, соответствующих нетерминалам из правых частей правил – это объединение множеств выбора всех правил с этим нетерминалом в левой части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состояний, соответствующих терминалам – это сам терминал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состояний, соответствующих обозначениям пустой цепочки – это множество последователей нетерминала из левой части правила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Вебтранслабе с целью оптимизации хранятся и используются только множества выбора состояний, соответствующих нетерминалам из левых частей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520" y="-27360"/>
            <a:ext cx="76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цедура преобразования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L(1)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мматики в управляющую таблицу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leFSM 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0920" y="2349360"/>
          <a:ext cx="2376360" cy="4035240"/>
        </p:xfrm>
        <a:graphic>
          <a:graphicData uri="http://schemas.openxmlformats.org/drawingml/2006/table">
            <a:tbl>
              <a:tblPr/>
              <a:tblGrid>
                <a:gridCol w="431640"/>
                <a:gridCol w="1944720"/>
              </a:tblGrid>
              <a:tr h="359640"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ка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2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1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2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3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+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4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6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18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9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* 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2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3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0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7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8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9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0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1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1700280"/>
            <a:ext cx="86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Шаг 3: Формирование значений флажков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36720" y="2133720"/>
            <a:ext cx="62992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ажо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станавливается (имеет значени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только в состояниях, соответствующих терминалам, которые, естественно, могут находиться только в правых частях правил (14, 21, 25, 27, 29, 31)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ажо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станавливается в состояниях, соответствующих нетерминалам, находящимся в правых частях правил (0, 11, 12, 15 …)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ажо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станавливается в состояниях, соответствующих обозначениям пустой цепочки символов в конце правой части каждого правила    (13, 16, 17, …)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ажо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станавливается в состояниях, соответствующих нетерминалам, находящимся в левой части правил, за исключением последнего правила для каждого нетерминала (3, 6, 8, 9)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-27360"/>
            <a:ext cx="76201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цедура преобразования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L(1)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мматики в управляющую таблицу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leFSM 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24000" y="2276640"/>
          <a:ext cx="2376360" cy="4035240"/>
        </p:xfrm>
        <a:graphic>
          <a:graphicData uri="http://schemas.openxmlformats.org/drawingml/2006/table">
            <a:tbl>
              <a:tblPr/>
              <a:tblGrid>
                <a:gridCol w="502920"/>
                <a:gridCol w="1873440"/>
              </a:tblGrid>
              <a:tr h="359640"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ка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2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1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2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3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+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4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6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18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9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* 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2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3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0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7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8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9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0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1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250920" y="1700280"/>
            <a:ext cx="867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Шаг 4: Формирование адресов перехода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36720" y="2060640"/>
            <a:ext cx="62992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состояния, соответствующего нетерминалу в левой части правила, нужно переходить в состояние, соответствующее первому символу правой части этого правила (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11,  3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14,  4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17,  …)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состояния, соответствующего нетерминалу в правой части правила, нужно переходить в состояние, соответствующее самому первому такому нетерминалу в левой части (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2,  11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5,  12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3, 15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2,  18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8, …)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состояния, соответствующего терминалу (в правой части) нужно переходить в состояние с номером, большим на 1 (14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15,  21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22,  25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26, …)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состояний, соответствующих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адрес перехода можно не формировать. В этих состояниях действует установленный флажо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оэтому переход осуществляется в состояние, номер которого снимается с верхушки стека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03280" y="30240"/>
            <a:ext cx="78487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Управляющая таблица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втомата, построенного по грамматике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i="1" lang="en-US" sz="38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1700280"/>
          <a:ext cx="4103640" cy="4749840"/>
        </p:xfrm>
        <a:graphic>
          <a:graphicData uri="http://schemas.openxmlformats.org/drawingml/2006/table">
            <a:tbl>
              <a:tblPr/>
              <a:tblGrid>
                <a:gridCol w="503280"/>
                <a:gridCol w="1441440"/>
                <a:gridCol w="287280"/>
                <a:gridCol w="287640"/>
                <a:gridCol w="288720"/>
                <a:gridCol w="287280"/>
                <a:gridCol w="1008000"/>
              </a:tblGrid>
              <a:tr h="279720"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жество выбора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ажк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ход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i c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i c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i c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)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i c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)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c* +( )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932360" y="1712880"/>
          <a:ext cx="3960720" cy="5029200"/>
        </p:xfrm>
        <a:graphic>
          <a:graphicData uri="http://schemas.openxmlformats.org/drawingml/2006/table">
            <a:tbl>
              <a:tblPr/>
              <a:tblGrid>
                <a:gridCol w="530280"/>
                <a:gridCol w="1341360"/>
                <a:gridCol w="289080"/>
                <a:gridCol w="287280"/>
                <a:gridCol w="287280"/>
                <a:gridCol w="289080"/>
                <a:gridCol w="936360"/>
              </a:tblGrid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i c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c* +( )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c* +( )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i c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+ )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c* +( )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i c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c* +( )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c* +( )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i c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c* +( )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c* +( )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c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+( )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115920"/>
            <a:ext cx="79567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птимизация управляющей таблицы, устранение избыто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2881440"/>
            <a:ext cx="90360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йствия могут быть определены в грамматике для решения задач преобразования предложений в ПФЗ (или АСД), семантического анализа, оптимизации по памяти или по времени, генерации кода или интерпре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действия для состояний 13, 16, 20, 23, 28, 30 и 32 не определены, то эти состояния являются избыточными и могут быть удалены из табл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д удалением каждого избыточного состояния следует установить флажок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предыдущем состоянии, но только в том случае, если в нем не установлен флажок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Если же в состоянии, номер которого на 1 меньше, чем номер удаляемого состояния, ранее был установлен флажок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то нужно сбросить его и не устанавливать флажок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ринципе могут быть удалены и состояния 17 и 24, но технология совсем другая. В отличие от состояний 13, 16, … у состояний 17 и 24 нет предыдущих. Поэтому перенос флажк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олжен быть выполнен в состояния 4 (при удалении состояния 17) и 7 (при удалении состояния 24). Вебтранслаб удаляет только состояния типа 13, 16, … и только при условии, что пуста клетка "Действие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1844640"/>
          <a:ext cx="8496360" cy="911160"/>
        </p:xfrm>
        <a:graphic>
          <a:graphicData uri="http://schemas.openxmlformats.org/drawingml/2006/table">
            <a:tbl>
              <a:tblPr/>
              <a:tblGrid>
                <a:gridCol w="3166920"/>
                <a:gridCol w="432000"/>
                <a:gridCol w="433440"/>
                <a:gridCol w="431640"/>
                <a:gridCol w="431640"/>
                <a:gridCol w="1729080"/>
                <a:gridCol w="187164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ножество выбора состояния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лажки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рес перехода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395280" y="1413000"/>
            <a:ext cx="849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 предыдущем слайде не показана колонка "Действие"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03280" y="30240"/>
            <a:ext cx="78487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Оптимизированная управляющая таблица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втомат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9640" y="1700280"/>
          <a:ext cx="4103640" cy="4749840"/>
        </p:xfrm>
        <a:graphic>
          <a:graphicData uri="http://schemas.openxmlformats.org/drawingml/2006/table">
            <a:tbl>
              <a:tblPr/>
              <a:tblGrid>
                <a:gridCol w="503280"/>
                <a:gridCol w="1441440"/>
                <a:gridCol w="287280"/>
                <a:gridCol w="287640"/>
                <a:gridCol w="288720"/>
                <a:gridCol w="287280"/>
                <a:gridCol w="1008000"/>
              </a:tblGrid>
              <a:tr h="279720"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жество выбора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ажк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ход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i c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i c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i c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)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i c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)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932360" y="1712880"/>
          <a:ext cx="3960720" cy="2514600"/>
        </p:xfrm>
        <a:graphic>
          <a:graphicData uri="http://schemas.openxmlformats.org/drawingml/2006/table">
            <a:tbl>
              <a:tblPr/>
              <a:tblGrid>
                <a:gridCol w="530280"/>
                <a:gridCol w="1341360"/>
                <a:gridCol w="289080"/>
                <a:gridCol w="287280"/>
                <a:gridCol w="287280"/>
                <a:gridCol w="289080"/>
                <a:gridCol w="936360"/>
              </a:tblGrid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i c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+ )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i c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i c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508720" y="-27000"/>
            <a:ext cx="36352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лгоритм функционирования автом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10080" y="5565600"/>
            <a:ext cx="71136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54600" y="5565600"/>
            <a:ext cx="71136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05400" y="580716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65563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22960" y="5991120"/>
            <a:ext cx="7113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00480" y="51721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99000" y="4280040"/>
            <a:ext cx="71136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62320" y="19494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00720" y="3645000"/>
            <a:ext cx="711000" cy="24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02000" y="4657680"/>
            <a:ext cx="7113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82920" y="4056120"/>
            <a:ext cx="7113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19280" y="836640"/>
            <a:ext cx="6141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00480" y="5972040"/>
            <a:ext cx="7110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00480" y="54324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56000" y="1413000"/>
            <a:ext cx="588960" cy="24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532720" y="3284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51240" y="1879560"/>
            <a:ext cx="71100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84640" y="1300320"/>
            <a:ext cx="71100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88960" y="243000"/>
            <a:ext cx="3946680" cy="38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чистить стек, прочитать первый символ предложения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установить текущим состояние 0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440" y="2082960"/>
            <a:ext cx="364500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очитать следующий терминал со входа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65560" y="631800"/>
            <a:ext cx="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55960" y="1494000"/>
            <a:ext cx="2400120" cy="48420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ag a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5280" y="873000"/>
            <a:ext cx="2876400" cy="48420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надлежит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2440" y="4862520"/>
            <a:ext cx="364500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нять с верхушки стека номер состояния и установить его текущим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4920" y="3686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164000" y="4365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08080" y="3638520"/>
            <a:ext cx="2578320" cy="48420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ag r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46720" y="1731960"/>
            <a:ext cx="88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45280" y="1731960"/>
            <a:ext cx="0" cy="72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1680" y="13604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84640" y="2330280"/>
            <a:ext cx="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03720" y="4122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290760" y="2452680"/>
            <a:ext cx="20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55680" y="1116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31840" y="738360"/>
            <a:ext cx="0" cy="604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55960" y="4260960"/>
            <a:ext cx="2489040" cy="48240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е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уст?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08400" y="47293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23920" y="5322960"/>
            <a:ext cx="217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03720" y="60530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15960" y="6195960"/>
            <a:ext cx="3556080" cy="3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становить текущим следующее по номеру состояние (текущее + 1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27160" y="74304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999120" y="6229440"/>
            <a:ext cx="1244880" cy="57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Останов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Предложение правильное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21560" y="5987880"/>
            <a:ext cx="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08640" y="6237360"/>
            <a:ext cx="12445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Останов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В предложении ошибка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65840" y="5823000"/>
            <a:ext cx="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10080" y="4500720"/>
            <a:ext cx="311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55680" y="5423040"/>
            <a:ext cx="20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55680" y="1116000"/>
            <a:ext cx="0" cy="430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84640" y="30132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30880" y="2492280"/>
            <a:ext cx="57276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73560" y="2941560"/>
            <a:ext cx="7110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44760" y="3146400"/>
            <a:ext cx="364464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писать в стек номер текущего состояния + 1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77920" y="2557440"/>
            <a:ext cx="2400480" cy="484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ag 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68680" y="2795760"/>
            <a:ext cx="8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67240" y="2795760"/>
            <a:ext cx="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97240" y="3394080"/>
            <a:ext cx="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313080" y="3525840"/>
            <a:ext cx="20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77040" y="5565600"/>
            <a:ext cx="2489040" cy="48276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вход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OF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55960" y="5565600"/>
            <a:ext cx="2489040" cy="48276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ag e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131480" y="6775560"/>
            <a:ext cx="214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16000" y="5308560"/>
            <a:ext cx="36360" cy="3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1560" y="449280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51440" y="5791320"/>
            <a:ext cx="3492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4920" y="3502080"/>
            <a:ext cx="3672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65560" y="2440080"/>
            <a:ext cx="36360" cy="3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6480" y="71748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38829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6000" y="3573360"/>
            <a:ext cx="2592360" cy="6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становить текущи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стояние, номер которого взят из поля «Адрес перехода»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08720" y="75420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508720" y="328464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164360" y="418320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43920"/>
            <a:ext cx="736920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роцедурная реализация рекурсивного спуска (3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1773360"/>
            <a:ext cx="9036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boo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S() {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 U() == FALSE 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вызываем функцию разбора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цепочки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ALS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выводимой из нетерминала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и останавливаемся, если о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обнаружила ошибку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 R() == FALSE 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аналогично для нетерминала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ALSE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E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//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разбор цепочки, выводимой из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нетерминала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 завершен успешно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115560"/>
            <a:ext cx="75121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тория разбора цепочки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+y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)*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79280" y="1341360"/>
          <a:ext cx="8713800" cy="2514600"/>
        </p:xfrm>
        <a:graphic>
          <a:graphicData uri="http://schemas.openxmlformats.org/drawingml/2006/table">
            <a:tbl>
              <a:tblPr/>
              <a:tblGrid>
                <a:gridCol w="687600"/>
                <a:gridCol w="473040"/>
                <a:gridCol w="471240"/>
                <a:gridCol w="473400"/>
                <a:gridCol w="471240"/>
                <a:gridCol w="471600"/>
                <a:gridCol w="473040"/>
                <a:gridCol w="471600"/>
                <a:gridCol w="473040"/>
                <a:gridCol w="471600"/>
                <a:gridCol w="471240"/>
                <a:gridCol w="473040"/>
                <a:gridCol w="471600"/>
                <a:gridCol w="471600"/>
                <a:gridCol w="473040"/>
                <a:gridCol w="471240"/>
                <a:gridCol w="473400"/>
                <a:gridCol w="471240"/>
              </a:tblGrid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ход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.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к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838080" y="4005360"/>
          <a:ext cx="8070840" cy="2743200"/>
        </p:xfrm>
        <a:graphic>
          <a:graphicData uri="http://schemas.openxmlformats.org/drawingml/2006/table">
            <a:tbl>
              <a:tblPr/>
              <a:tblGrid>
                <a:gridCol w="423720"/>
                <a:gridCol w="425520"/>
                <a:gridCol w="424080"/>
                <a:gridCol w="425160"/>
                <a:gridCol w="425520"/>
                <a:gridCol w="424080"/>
                <a:gridCol w="425160"/>
                <a:gridCol w="424080"/>
                <a:gridCol w="425520"/>
                <a:gridCol w="425160"/>
                <a:gridCol w="424080"/>
                <a:gridCol w="425520"/>
                <a:gridCol w="423720"/>
                <a:gridCol w="425520"/>
                <a:gridCol w="425520"/>
                <a:gridCol w="423720"/>
                <a:gridCol w="425520"/>
                <a:gridCol w="423720"/>
                <a:gridCol w="425520"/>
              </a:tblGrid>
              <a:tr h="304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1371600" y="1341360"/>
            <a:ext cx="0" cy="270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88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кончание истории разбора цепочки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+y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)*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23880" y="1905120"/>
          <a:ext cx="7010640" cy="2666880"/>
        </p:xfrm>
        <a:graphic>
          <a:graphicData uri="http://schemas.openxmlformats.org/drawingml/2006/table">
            <a:tbl>
              <a:tblPr/>
              <a:tblGrid>
                <a:gridCol w="412920"/>
                <a:gridCol w="412560"/>
                <a:gridCol w="411480"/>
                <a:gridCol w="412560"/>
                <a:gridCol w="412920"/>
                <a:gridCol w="412560"/>
                <a:gridCol w="411120"/>
                <a:gridCol w="412920"/>
                <a:gridCol w="412560"/>
                <a:gridCol w="412920"/>
                <a:gridCol w="411120"/>
                <a:gridCol w="412560"/>
                <a:gridCol w="412920"/>
                <a:gridCol w="412560"/>
                <a:gridCol w="411480"/>
                <a:gridCol w="412560"/>
                <a:gridCol w="412920"/>
              </a:tblGrid>
              <a:tr h="304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75121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руктура стекового автомата нисходящего разбора с одним состоя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2569680"/>
            <a:ext cx="91440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6676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томат име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5560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вумерную управляющую таблицу с клеткам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держащими последовательности опера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5560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кущий входной символ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5560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ек для хранения символов граммат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5560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кущий символ с верхушки сте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стартом автомата в стек занося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мвол </a:t>
            </a:r>
            <a:r>
              <a:rPr b="0" lang="ru-RU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начальный нетерминал грамматики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томат стартует, имея на верхушке ст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чальный нетерминал, а на входе – перв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рминал из входной цепо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любой момент по текущему символу с верхушки стека и по текущему входному терминалу из клетки управляющей таблицы выбирается и исполняется последовательность операций, возможно, модифицирующая содержимое ст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танов автомата в момент, когда и на входе и на верхушке стека находятся символы </a:t>
            </a:r>
            <a:r>
              <a:rPr b="0" lang="ru-RU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идетельствует о том, что входная цепочка является правильным предложением, в любом другом случае – что в цепочке ошиб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124000" y="1700280"/>
            <a:ext cx="6335640" cy="3600360"/>
            <a:chOff x="2124000" y="1700280"/>
            <a:chExt cx="6335640" cy="3600360"/>
          </a:xfrm>
        </p:grpSpPr>
        <p:sp>
          <p:nvSpPr>
            <p:cNvPr id="239" name=""/>
            <p:cNvSpPr/>
            <p:nvPr/>
          </p:nvSpPr>
          <p:spPr>
            <a:xfrm>
              <a:off x="2557440" y="2154240"/>
              <a:ext cx="25923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Текущий терминал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46800" y="2379600"/>
              <a:ext cx="1689120" cy="145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Автомат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24000" y="1700280"/>
              <a:ext cx="352908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Входная цепочка терминалов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81800" y="220356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557080" y="2203560"/>
              <a:ext cx="30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32360" y="4243320"/>
              <a:ext cx="1104840" cy="10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Текущий символ с верхушки стека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30800" y="2852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10280" y="3954600"/>
              <a:ext cx="444600" cy="7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10280" y="3954600"/>
              <a:ext cx="444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07040" y="43210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23040" y="382284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07280" y="4363920"/>
              <a:ext cx="1152360" cy="576360"/>
            </a:xfrm>
            <a:prstGeom prst="wedgeRectCallout">
              <a:avLst>
                <a:gd name="adj1" fmla="val -116115"/>
                <a:gd name="adj2" fmla="val -11336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Стек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символов</a:t>
              </a:r>
              <a:endParaRPr b="0" lang="en-US" sz="16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6800" y="2557440"/>
              <a:ext cx="88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46800" y="2746440"/>
              <a:ext cx="88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13560" y="2376360"/>
              <a:ext cx="0" cy="4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79960" y="2376360"/>
              <a:ext cx="0" cy="4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46720" y="2376360"/>
              <a:ext cx="0" cy="4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57440" y="198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7040" y="414972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0800" y="422100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30800" y="285264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2964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бозначения знаков операций автомата с одним состояние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1628640"/>
            <a:ext cx="8569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1440" indent="-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аблон(ы) в Вебтранслабе:      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tAsSingleFSM…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занесение символ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тек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ятие одного символа с верхушки стека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ение следующего символа из входной цепочки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останов по окончанию разбора правильного предложения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пусто&gt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останов по обнаружению ошибки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етка управляющей таблицы может содержать последовательности операций произвольной длины, например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1440" indent="-14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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начальный момент в стеке автомата должны находиться символы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11640" y="5516640"/>
            <a:ext cx="720720" cy="12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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11640" y="6426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11640" y="5516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1640" y="61326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Преобразование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L(1)-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грамматики в автомат (1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50920" y="1773360"/>
          <a:ext cx="2976480" cy="4114800"/>
        </p:xfrm>
        <a:graphic>
          <a:graphicData uri="http://schemas.openxmlformats.org/drawingml/2006/table">
            <a:tbl>
              <a:tblPr/>
              <a:tblGrid>
                <a:gridCol w="552240"/>
                <a:gridCol w="2424240"/>
              </a:tblGrid>
              <a:tr h="417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ка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2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R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W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S )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&lt;идентификатор&gt;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&lt;константа&gt;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3635280" y="2708280"/>
          <a:ext cx="5184720" cy="2622600"/>
        </p:xfrm>
        <a:graphic>
          <a:graphicData uri="http://schemas.openxmlformats.org/drawingml/2006/table">
            <a:tbl>
              <a:tblPr/>
              <a:tblGrid>
                <a:gridCol w="576000"/>
                <a:gridCol w="647640"/>
                <a:gridCol w="720720"/>
                <a:gridCol w="648000"/>
                <a:gridCol w="647640"/>
                <a:gridCol w="647640"/>
                <a:gridCol w="619200"/>
                <a:gridCol w="67788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"/>
          <p:cNvSpPr/>
          <p:nvPr/>
        </p:nvSpPr>
        <p:spPr>
          <a:xfrm>
            <a:off x="3635280" y="1843200"/>
            <a:ext cx="518472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1440" indent="-1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Шаг 1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роится заготовка управляющей таблицы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43920"/>
            <a:ext cx="736920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роцедурная реализация рекурсивного спуска (4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00" y="1773360"/>
            <a:ext cx="90360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boo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U() {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 V() == FALSE 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вызываем функцию разбор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FALSE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нетерминала V 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останавливаемся, если о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обнаружила ошибку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W()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возвращаем то, что вернет функция W(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43920"/>
            <a:ext cx="736920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роцедурная реализация рекурсивного спуска (5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1557360"/>
            <a:ext cx="90360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boo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R() {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 CurrentLexem == #+# )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очередной терминал входит в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множество выбора правила R : +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CurrentLexem = GetLexem()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прочитаем следующий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S()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и вернем то, что вернет функция S(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 ( CurrentLexem == #)# ) ||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очередной терминал входит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 CurrentLexem == #EOF# ) )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в множество выбора R : </a:t>
            </a:r>
            <a:r>
              <a:rPr b="1" i="1" lang="ru-RU" sz="2400" spc="-1" strike="noStrike">
                <a:solidFill>
                  <a:srgbClr val="008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применяем это правило, т. е. н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делаем ничего и возвращаемся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FALSE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очередной терминал не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входит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ни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в одно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множество выбора, поэтому останов по ошибк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43920"/>
            <a:ext cx="736920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роцедурная реализация рекурсивного спуска (6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557360"/>
            <a:ext cx="90360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boo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) {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 CurrentLexem == #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# )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очередной терминал входит в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множество выбора правила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W : * U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CurrentLexem = GetLexem()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прочитаем следующий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)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и вернем то, что вернет функция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(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 ( CurrentLexem == #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# ) ||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очередной терминал входит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 CurrentLexem == #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# 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в множество выбора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W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 : </a:t>
            </a:r>
            <a:r>
              <a:rPr b="1" i="1" lang="ru-RU" sz="2400" spc="-1" strike="noStrike">
                <a:solidFill>
                  <a:srgbClr val="008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 CurrentLexem == #EOF# ) 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//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правила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W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 : </a:t>
            </a:r>
            <a:r>
              <a:rPr b="1" i="1" lang="ru-RU" sz="2400" spc="-1" strike="noStrike">
                <a:solidFill>
                  <a:srgbClr val="008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применяем это правило, т. е. н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делаем ничего и возвращаемся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FALSE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очередной терминал не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входит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ни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в одно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множество выбора, поэтому останов по ошибк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43920"/>
            <a:ext cx="736920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роцедурная реализация рекурсивного спуска (7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557360"/>
            <a:ext cx="90360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boo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V() {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switc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CurrentLexem)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здесь использована другая техник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проверки очередного терминал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#(# :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в этом случае должно применяться правило V : ( S 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CurrentLexem = GetLexem();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прочитаем следующий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терминал из входной цепочк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 S() == FALSE 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вызовем S(), и если о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обнаружит ошибку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FALSE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то остановимся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а если ошибки не было,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 CurrentLexem != #)# 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то очередным терминалом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должна быть скобка 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FALSE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если нет – остановимся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если да, действуем так же, как в случае правил V : i и V : c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43920"/>
            <a:ext cx="736920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роцедурная реализация рекурсивного спуска (8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8000" y="1557360"/>
            <a:ext cx="90360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#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en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# 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это правило V : 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#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# 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это правило V : c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CurrentLexem = GetLexem()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прочитаем следующий 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терминал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break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и на выход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defaul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очередной терминал не входит ни в одно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множество выбор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FALSE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остановимся по ошибк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TRUE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// вернемся из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V()</a:t>
            </a:r>
            <a:r>
              <a:rPr b="0" i="1" lang="ru-RU" sz="2400" spc="-1" strike="noStrike">
                <a:solidFill>
                  <a:srgbClr val="008000"/>
                </a:solidFill>
                <a:latin typeface="Times New Roman"/>
              </a:rPr>
              <a:t> для продолжения разбор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286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5121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История работы для предложения </a:t>
            </a:r>
            <a:r>
              <a:rPr b="0" i="1" lang="ru-RU" sz="3800" spc="-1" strike="noStrike">
                <a:solidFill>
                  <a:srgbClr val="000000"/>
                </a:solidFill>
                <a:latin typeface="Arial"/>
              </a:rPr>
              <a:t>( x +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ru-RU" sz="3800" spc="-1" strike="noStrike">
                <a:solidFill>
                  <a:srgbClr val="000000"/>
                </a:solidFill>
                <a:latin typeface="Arial"/>
              </a:rPr>
              <a:t> ) *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ru-RU" sz="3800" spc="-1" strike="noStrike">
                <a:solidFill>
                  <a:srgbClr val="000000"/>
                </a:solidFill>
                <a:latin typeface="Wingdings 3"/>
                <a:ea typeface="Wingdings 3"/>
              </a:rPr>
              <a:t>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79280" y="1905120"/>
          <a:ext cx="8856720" cy="4093920"/>
        </p:xfrm>
        <a:graphic>
          <a:graphicData uri="http://schemas.openxmlformats.org/drawingml/2006/table">
            <a:tbl>
              <a:tblPr/>
              <a:tblGrid>
                <a:gridCol w="1271520"/>
                <a:gridCol w="505080"/>
                <a:gridCol w="506160"/>
                <a:gridCol w="505080"/>
                <a:gridCol w="507960"/>
                <a:gridCol w="504720"/>
                <a:gridCol w="504720"/>
                <a:gridCol w="506520"/>
                <a:gridCol w="504720"/>
                <a:gridCol w="506520"/>
                <a:gridCol w="504720"/>
                <a:gridCol w="505080"/>
                <a:gridCol w="507960"/>
                <a:gridCol w="504720"/>
                <a:gridCol w="506520"/>
                <a:gridCol w="504720"/>
              </a:tblGrid>
              <a:tr h="368280">
                <a:tc>
                  <a:txBody>
                    <a:bodyPr lIns="18000" rIns="18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18000" rIns="18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ход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18000" rIns="18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18000" rIns="18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к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692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История работы для предложения </a:t>
            </a:r>
            <a:r>
              <a:rPr b="0" i="1" lang="ru-RU" sz="3800" spc="-1" strike="noStrike">
                <a:solidFill>
                  <a:srgbClr val="000000"/>
                </a:solidFill>
                <a:latin typeface="Arial"/>
              </a:rPr>
              <a:t>( x +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ru-RU" sz="3800" spc="-1" strike="noStrike">
                <a:solidFill>
                  <a:srgbClr val="000000"/>
                </a:solidFill>
                <a:latin typeface="Arial"/>
              </a:rPr>
              <a:t> ) *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ru-RU" sz="3800" spc="-1" strike="noStrike">
                <a:solidFill>
                  <a:srgbClr val="000000"/>
                </a:solidFill>
                <a:latin typeface="Wingdings 3"/>
                <a:ea typeface="Wingdings 3"/>
              </a:rPr>
              <a:t>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8000" y="1905120"/>
          <a:ext cx="8928000" cy="3809880"/>
        </p:xfrm>
        <a:graphic>
          <a:graphicData uri="http://schemas.openxmlformats.org/drawingml/2006/table">
            <a:tbl>
              <a:tblPr/>
              <a:tblGrid>
                <a:gridCol w="558720"/>
                <a:gridCol w="558720"/>
                <a:gridCol w="555840"/>
                <a:gridCol w="558720"/>
                <a:gridCol w="558720"/>
                <a:gridCol w="558720"/>
                <a:gridCol w="555840"/>
                <a:gridCol w="558720"/>
                <a:gridCol w="558720"/>
                <a:gridCol w="558720"/>
                <a:gridCol w="555840"/>
                <a:gridCol w="558720"/>
                <a:gridCol w="558720"/>
                <a:gridCol w="559080"/>
                <a:gridCol w="555480"/>
                <a:gridCol w="558720"/>
              </a:tblGrid>
              <a:tr h="43668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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04:29:17Z</dcterms:created>
  <dc:creator>Lector</dc:creator>
  <dc:description/>
  <dc:language>en-US</dc:language>
  <cp:lastModifiedBy>alex_m</cp:lastModifiedBy>
  <dcterms:modified xsi:type="dcterms:W3CDTF">2013-10-28T06:29:11Z</dcterms:modified>
  <cp:revision>166</cp:revision>
  <dc:subject/>
  <dc:title>Системное программное обеспечение. Методы трансляции</dc:title>
</cp:coreProperties>
</file>