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1585-935E-4E37-BB6A-4489090A5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942D-8BC7-4AF2-B9C8-9FD5E3C46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F21C-E6A4-46F4-9B95-29146D6DC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1F9-6189-482B-8FD7-2DA3E28B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C2D-8D0C-4FE8-B8CC-42D4D480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830-FB67-4989-86C1-AC91467D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3D9-6210-494B-AE9D-959F9772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2DD9-AF85-48FD-9C92-BE76C909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62A7-24BE-4B71-B081-ED34B0FF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12D5-04AD-4E9B-A5B9-EE6B6A92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4352-62C3-4BB4-A954-C4EE3F26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79B4-9F0D-43A7-91A8-A6A677DC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884B-1AAB-4E6C-9889-554508D1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F311-81C9-41CF-8B5C-289F23CF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B4A-9221-4E8E-B5C0-19DAB144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78B5-D6C1-450E-9FD7-11E3FF78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2816-FD60-445B-95B0-B610E046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137E-8DA0-47BB-9E90-3C71DF65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4A7B-CD89-4715-B023-D4EA35E4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A784-08CD-4F72-9664-2F5CDE23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5179-C71D-489D-B297-24F8E328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BE3A-090E-4751-A0BB-803D454D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034C-A10C-4E75-8E81-BB545F13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6A26-CB31-48BB-81E9-8808239B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070A-6E13-43A2-9D8B-E8B5E6A4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EE1-166B-40FC-ADBE-27A834D6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5FC4-CDC6-48AF-9A74-CCE4E436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C5D8-1D2C-4E2C-B6BB-1343C95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2D82-F727-4BF0-9008-C5058476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EF0F-E585-4A2C-BEA4-EC851B4D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D523-3649-43BA-BA91-9D268493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6AB6-F780-4960-AEBB-10091B79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7CD7-90A3-499E-AD89-AB31F8E2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F77B-CFAF-4872-A29D-375BF8C9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43529-4837-49EE-B307-2C391559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353A-11BB-4F17-B044-BCC05C77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4D4-792F-425F-BF84-B483FD23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E771-72BD-4650-9439-9EDEBF48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31DE-AEDF-48EA-AD9D-2AD96D71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C2C3-AD3A-478B-8793-F1C778E9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6C59-0FC5-4AF0-80E8-CB337916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3078-74B1-4A6E-8176-F7EA2F4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650C-22FA-45D2-BAA2-7C50A90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0471-A746-43B2-A2A1-79A3A8B5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451B-3F4D-4E5D-A6F9-39219431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820B-ADC7-4785-BB8C-5796BD1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1BE0B-BD39-4920-83AE-4708DAFC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141-CCCA-44D4-BB1A-3979F220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13CCC-659D-40FA-9E37-16A6B8AE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33998-D052-4E54-BCA1-B41F6AE9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CC24F-771E-454D-9480-81F65ECA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A014B-33E4-49D9-A7F1-AEF65EA1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97236-0982-4374-9E0E-C903F301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31FB7-39FA-4FE7-B047-8FF632F4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4EE44-00B9-4A73-AC27-5912DB40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71C6-61E5-4A2D-8DB2-2260E3A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AA627-7988-4E16-AA22-5986AB5D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D8C3-82DD-47D9-97B6-3437ED10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D0C-EFAB-4790-A659-FD13CC6C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AB08C-2708-4D64-BFF3-4B9EEF94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DCDBC-6AFE-4826-AFD1-00A2233A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B7754-6CE3-4332-8CF5-E17319A8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A119-93A7-45D4-8086-8CE1679D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B6D6-7BD7-478D-A506-645D9814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37FF1-76F9-4123-A0DE-A96AABB2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EE815-E7A8-4C86-9A61-AB7B9FE5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0DD6-BD62-4D96-AE36-B481C963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E592A-44F8-41E4-AD8F-8153B0A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215B8-6C61-4C15-B42A-2ACCE77F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3D8-0E1E-4237-82D1-79FE98B0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E6234-0DC1-4CEF-8BEE-F1403154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DC6D4-7AD8-4344-A0E1-0BBB51AA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00A68-28A6-498C-BCC3-E98E33B4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29864-D92A-4D51-BF5A-3E96395E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818E-7D40-40DF-9569-D5766850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25B19-CA1A-450A-98DE-B7CFBD82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F6D6-CFFE-4825-A518-58D939C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D30F-1473-4FD6-AD45-AB997D47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D7AA7-5DD6-4D26-A3E1-1D07B4AC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AB91C-BFFC-4A69-877B-1AF53CFF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296-9300-414B-9AB2-6224B669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F41AD-11B5-479A-93D9-3D7F635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24079-91D0-4C82-9D01-F433DDB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9D3AD-4F88-4175-9F29-4A250FED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29379-4E77-4EB8-ACBB-C7DD83CA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BB143-5CC1-473F-A552-B19E30CD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691-543B-485A-9E66-8D09A64E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2132-0C9C-48DF-9FB6-A9B95F59DD7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DC23-A9C2-4414-B371-7BF432C5B76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9D0C-CF87-4140-8555-25DD1BFA116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EDA9-136E-45BA-BAF7-B3446219AD0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3BB3-6B8A-40BB-B390-D54C65ACC7A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4A35-E33A-4AE8-A480-C942831D7FF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0DEC-4F5B-4FDF-8A95-E9F29CF8802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Заголовок 3"/>
          <p:cNvSpPr/>
          <p:nvPr/>
        </p:nvSpPr>
        <p:spPr>
          <a:xfrm>
            <a:off x="1187280" y="14436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Параллельная пузырьковая сортир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одзаголовок 4"/>
          <p:cNvSpPr/>
          <p:nvPr/>
        </p:nvSpPr>
        <p:spPr>
          <a:xfrm>
            <a:off x="1042920" y="981000"/>
            <a:ext cx="81010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 пузырьковой  сортировки  в  прямом  виде  не может быть распараллелен, потому что на каждой последующей итерации цикла используется результат предыдущей. Для  параллельной сортировки  обычно  используется модификация, известная  в  литературе  как  метод  чет-нечетной  перестановки (odd-even transposi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уть  модификации  состоит  в  том,  что  в  алгоритм  сортировки  вводятся  два  разных правила  выполнения  итераций  метода –  в  зависимости  от  четности  или  нечетности  номера  итерации сортировки  для  обработки  берутся  элементы  с  четными  или  нечетными  индексами  соответственно, их сравнение  всегда  осуществляется  с  правыми  соседними  элементами масси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на всех нечетных итерациях сравниваются па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1, 2), (3, 4), ..., (n-1,n) при нечетном 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 на четных итерациях обрабатываются элемен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0, 1), (2, 3), ..., (n-2,n-1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35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сле  n-кратного  повторения  итераций  сортировки  исходный  набор  данных  оказывается упорядочен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Заголовок 3"/>
          <p:cNvSpPr/>
          <p:nvPr/>
        </p:nvSpPr>
        <p:spPr>
          <a:xfrm>
            <a:off x="1187280" y="71280"/>
            <a:ext cx="77724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Рекомендации по использованию критических секци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дзаголовок 4"/>
          <p:cNvSpPr/>
          <p:nvPr/>
        </p:nvSpPr>
        <p:spPr>
          <a:xfrm>
            <a:off x="1052640" y="1052640"/>
            <a:ext cx="8100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#pragma 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omp critic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f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 condition 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 condition 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#pragma 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omp critic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f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 condition 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Заголовок 3"/>
          <p:cNvSpPr/>
          <p:nvPr/>
        </p:nvSpPr>
        <p:spPr>
          <a:xfrm>
            <a:off x="1000080" y="-586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Блокировки (замки, </a:t>
            </a: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locks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одзаголовок 4"/>
          <p:cNvSpPr/>
          <p:nvPr/>
        </p:nvSpPr>
        <p:spPr>
          <a:xfrm>
            <a:off x="1042920" y="857160"/>
            <a:ext cx="810108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из вариантов синхронизации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MP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через механизм блокировок или замков (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ock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. В качестве замков используются общие переменны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ого типа. Они могут использоваться только как параметры примитивов синхронизации (т.е. как аргументы функций библиотек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MP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мки объявляются в программе с использованием одного из оператор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lock_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yLock;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это простой зам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nest_lock_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myNestedLock;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а это множественный зам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мок может находиться в одном из трёх состояний: неинициализированный, разблокированный или заблокированный. Для инициализации должна быть вызвана функция, соответствующая типу зам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init_loc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lock_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lo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init_nest_loc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nest_lock_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lo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нициализируемый замок переходит в разблокированное состоя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3"/>
          <p:cNvSpPr/>
          <p:nvPr/>
        </p:nvSpPr>
        <p:spPr>
          <a:xfrm>
            <a:off x="8459640" y="-10008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Заголовок 3"/>
          <p:cNvSpPr/>
          <p:nvPr/>
        </p:nvSpPr>
        <p:spPr>
          <a:xfrm>
            <a:off x="1000080" y="-586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Блокировки (замки, </a:t>
            </a: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locks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дзаголовок 4"/>
          <p:cNvSpPr/>
          <p:nvPr/>
        </p:nvSpPr>
        <p:spPr>
          <a:xfrm>
            <a:off x="1042920" y="785880"/>
            <a:ext cx="810108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блокированный замок может быть захвачен любым потоком. При этом он переходит в заблокированное состояние. Для захватывания замка используются фун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et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o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ock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set_nest_loc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nest_lock_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lo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ток, захвативший замок, и только он, может его освободить, после чего замок возвращается в разблокированное состояние. Если другой поток пытается захватить заблокированный замок, то он переходит в состояние ожид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освобождения замка используются фун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nset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o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ock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unset_nest_loc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nest_lock_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lock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множественного замка существует понятие коэффициента захваченности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sting cou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. При  инициализации он устанавливается в ноль, при каждом захватывании увеличивается на единицу, а при каждом освобождении уменьшается на единицу. Множественный замок считается разблокированным, если его коэффициент захваченности равен ну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3"/>
          <p:cNvSpPr/>
          <p:nvPr/>
        </p:nvSpPr>
        <p:spPr>
          <a:xfrm>
            <a:off x="1000080" y="-586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Блокировки (замки, </a:t>
            </a: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locks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одзаголовок 4"/>
          <p:cNvSpPr/>
          <p:nvPr/>
        </p:nvSpPr>
        <p:spPr>
          <a:xfrm>
            <a:off x="1042920" y="785880"/>
            <a:ext cx="810108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неблокирующей попытки захвата замка используются функ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test_loc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lock_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lo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test_nest_loc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_nest_lock_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lo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анные функции пробуют захватить указанный замок. Если это удалось, то для простого замка функция возвращает 1, а для множественного замка – новый коэффициент захваченности. Если замок захватить не удалось, в обоих случаях возвращается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замков является наиболее гибким механизмом синхронизации. С помощью замков можно реализовать все остальные варианты решения задачи синхронизации пото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днако использование замков для организации доступа нескольких потоков к нескольким разным общим ресурсам может привести к ситуации «смертельного объятия» и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adlock’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Заголовок 3"/>
          <p:cNvSpPr/>
          <p:nvPr/>
        </p:nvSpPr>
        <p:spPr>
          <a:xfrm>
            <a:off x="1000080" y="-586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Блокировки (замки, </a:t>
            </a: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locks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одзаголовок 4"/>
          <p:cNvSpPr/>
          <p:nvPr/>
        </p:nvSpPr>
        <p:spPr>
          <a:xfrm>
            <a:off x="1042920" y="1052640"/>
            <a:ext cx="810108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усть есть ресурс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соответственно замк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k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k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усть процесс 1 получил доступ к ресурс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путем захвата зам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k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и теперь хочет получить доступ к ресурс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 тем временем процесс 2 захватил замок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k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и хочет получить доступ к ресурс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ник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adloc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Оба процесса «засыпают» вечным сном, без вмешательства извне ничего измениться не может. А это вмешательство – только «убиение» обеих процес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71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ледует тщательно продумывать работу с несколькими защищаемыми ресурс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Заголовок 3"/>
          <p:cNvSpPr/>
          <p:nvPr/>
        </p:nvSpPr>
        <p:spPr>
          <a:xfrm>
            <a:off x="97164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равнение способов синхронизац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одзаголовок 4"/>
          <p:cNvSpPr/>
          <p:nvPr/>
        </p:nvSpPr>
        <p:spPr>
          <a:xfrm>
            <a:off x="1042920" y="1484280"/>
            <a:ext cx="810108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дификация общей перемен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unt += 1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00000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следовательная программа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0.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араллельная без синхронизации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и с ошибк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0.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араллельная с редукцией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0.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tom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itic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k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tabLst>
                <a:tab algn="l" pos="0"/>
                <a:tab algn="l" pos="68166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Заголовок 3"/>
          <p:cNvSpPr/>
          <p:nvPr/>
        </p:nvSpPr>
        <p:spPr>
          <a:xfrm>
            <a:off x="1000080" y="26820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ые функци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pen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одзаголовок 4"/>
          <p:cNvSpPr/>
          <p:nvPr/>
        </p:nvSpPr>
        <p:spPr>
          <a:xfrm>
            <a:off x="1042920" y="1700280"/>
            <a:ext cx="810108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oubl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get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wtime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вращает текущее значение системно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oubl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mp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get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_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wtick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вращает точность одного тика системных ча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Заголовок 3"/>
          <p:cNvSpPr/>
          <p:nvPr/>
        </p:nvSpPr>
        <p:spPr>
          <a:xfrm>
            <a:off x="1116000" y="18900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penCL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U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дзаголовок 4"/>
          <p:cNvSpPr/>
          <p:nvPr/>
        </p:nvSpPr>
        <p:spPr>
          <a:xfrm>
            <a:off x="1042920" y="907920"/>
            <a:ext cx="810108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Эти две технологии создавались для различных вариаций архитектуры ОКМД (один поток команд, много потоков данны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VIDIA CUD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явилась в результате развития видеоакселераторов и вначале преследовала цели достижения максимальной производительности в обработке графической информации. Затем эти цели трансформировались в идею использования созданных высокопроизводительных вычислителей для обработки данных общего назначения, не только графическ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родилась в компани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e In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изначально проектировалась как средство программирования гетерогенных вычислительных систем с общей памятью. После того, как эту технологию поддержала комп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MD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была образован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чая групп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hronos Compu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 которую вош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e, NVIDIA, AMD, IBM, Intel, ARM, Motorol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угие компан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3"/>
          <p:cNvSpPr/>
          <p:nvPr/>
        </p:nvSpPr>
        <p:spPr>
          <a:xfrm>
            <a:off x="1187280" y="14436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Параллельная пузырьковая сортир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дзаголовок 4"/>
          <p:cNvSpPr/>
          <p:nvPr/>
        </p:nvSpPr>
        <p:spPr>
          <a:xfrm>
            <a:off x="1042920" y="981000"/>
            <a:ext cx="8101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00ff"/>
                </a:solidFill>
                <a:latin typeface="Arial"/>
                <a:ea typeface="Arial"/>
              </a:rPr>
              <a:t>#define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 compExch( x, y ) </a:t>
            </a:r>
            <a:r>
              <a:rPr b="0" i="1" sz="2200" spc="-1" strike="noStrike">
                <a:solidFill>
                  <a:srgbClr val="0000ff"/>
                </a:solidFill>
                <a:latin typeface="Arial"/>
                <a:ea typeface="Arial"/>
              </a:rPr>
              <a:t>if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( x &gt; y ){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tmp=x;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x=y;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y=tmp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#define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ZE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Arial"/>
                <a:ea typeface="Arial"/>
              </a:rPr>
              <a:t>doubl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rrayX[ SIZE ]  = …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double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 tm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for 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int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 i = 0; i &lt; SIZE; i += 1 ) {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if 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( i % 2 == 0)</a:t>
            </a:r>
            <a:r>
              <a:rPr b="0" i="1" sz="2200" spc="-1" strike="noStrike">
                <a:solidFill>
                  <a:srgbClr val="00b050"/>
                </a:solidFill>
                <a:latin typeface="Arial"/>
                <a:ea typeface="Arial"/>
              </a:rPr>
              <a:t> // четная итерац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#pragma </a:t>
            </a:r>
            <a:r>
              <a:rPr b="0" i="1" sz="2200" spc="-1" strike="noStrike">
                <a:solidFill>
                  <a:srgbClr val="ff0000"/>
                </a:solidFill>
                <a:latin typeface="Arial"/>
                <a:ea typeface="Arial"/>
              </a:rPr>
              <a:t>omp parallel for private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( tmp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for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int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 j = 0; j &lt; SIZE - 1 ; j += 2 )</a:t>
            </a:r>
            <a:r>
              <a:rPr b="0" i="1" sz="22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sz="2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b050"/>
                </a:solidFill>
                <a:latin typeface="Arial"/>
                <a:ea typeface="Arial"/>
              </a:rPr>
              <a:t>// (0,1) (2,3) (4,5)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compExch( arrayX[ j ], arrayX[ j + 1 ] 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else</a:t>
            </a:r>
            <a:r>
              <a:rPr b="0" i="1" sz="2200" spc="-1" strike="noStrike">
                <a:solidFill>
                  <a:srgbClr val="00b050"/>
                </a:solidFill>
                <a:latin typeface="Arial"/>
                <a:ea typeface="Arial"/>
              </a:rPr>
              <a:t>          // нечетная итер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#pragma </a:t>
            </a:r>
            <a:r>
              <a:rPr b="0" i="1" sz="2200" spc="-1" strike="noStrike">
                <a:solidFill>
                  <a:srgbClr val="ff0000"/>
                </a:solidFill>
                <a:latin typeface="Arial"/>
                <a:ea typeface="Arial"/>
              </a:rPr>
              <a:t>omp parallel for private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( tmp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for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int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 j = 1; j &lt; SIZE - 1 ; j += 2 )</a:t>
            </a:r>
            <a:r>
              <a:rPr b="0" i="1" sz="22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sz="2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b050"/>
                </a:solidFill>
                <a:latin typeface="Arial"/>
                <a:ea typeface="Arial"/>
              </a:rPr>
              <a:t>// (1,2) (3,4) (5,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compExch(arrayX[  j ], arrayX[ j + 1 ] 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tabLst>
                <a:tab algn="l" pos="0"/>
                <a:tab algn="l" pos="358920"/>
                <a:tab algn="l" pos="71748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Заголовок 3"/>
          <p:cNvSpPr/>
          <p:nvPr/>
        </p:nvSpPr>
        <p:spPr>
          <a:xfrm>
            <a:off x="1187280" y="71280"/>
            <a:ext cx="77724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Задачи (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43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лько начиная с версии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одзаголовок 4"/>
          <p:cNvSpPr/>
          <p:nvPr/>
        </p:nvSpPr>
        <p:spPr>
          <a:xfrm>
            <a:off x="1042920" y="1125360"/>
            <a:ext cx="8101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#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ag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mp task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[опция [[,] опция]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ed bloc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3-й верс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M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й параллелизм (это директивы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ctio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реализуется в виде «задач», назначаемых пото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яющей систем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M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 помощью директивы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й структурный блок внутри параллельного региона можно объявить как задачу, которая добавляется к списку задач этого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лярное выражени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ivat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сок переменн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firstprivat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сок переменны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hare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еремен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defaul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o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untie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чает, что в случае откладывания задача может быть продолжена любым потоком из тех, которые выполняют данную параллельную обла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эта опция не указана, то задача может быть выполнена только породившим ее пото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Заголовок 3"/>
          <p:cNvSpPr/>
          <p:nvPr/>
        </p:nvSpPr>
        <p:spPr>
          <a:xfrm>
            <a:off x="1187280" y="71280"/>
            <a:ext cx="77724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пользования директив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одзаголовок 4"/>
          <p:cNvSpPr/>
          <p:nvPr/>
        </p:nvSpPr>
        <p:spPr>
          <a:xfrm>
            <a:off x="995400" y="1079640"/>
            <a:ext cx="828036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{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*left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*right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Type data;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}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200"/>
            </a:b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exter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process(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* )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200"/>
            </a:b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traverse( 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struc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node *p )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{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if (p-&gt;left) </a:t>
            </a:r>
            <a:br>
              <a:rPr sz="2200"/>
            </a:br>
            <a:r>
              <a:rPr b="0" i="1" lang="ru-RU" sz="2200" spc="-1" strike="noStrike">
                <a:solidFill>
                  <a:srgbClr val="0033cc"/>
                </a:solidFill>
                <a:latin typeface="Arial"/>
              </a:rPr>
              <a:t>#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mp task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rstprivate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) unt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raverse(p-&gt;left)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if (p-&gt;right) </a:t>
            </a:r>
            <a:br>
              <a:rPr sz="2200"/>
            </a:br>
            <a:r>
              <a:rPr b="0" i="1" lang="ru-RU" sz="2200" spc="-1" strike="noStrike">
                <a:solidFill>
                  <a:srgbClr val="0033cc"/>
                </a:solidFill>
                <a:latin typeface="Arial"/>
              </a:rPr>
              <a:t>#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mp task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rstprivate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) untied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traverse(p-&gt;right); 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#pragma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mp taskwait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    process(p); 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//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обработка данных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data 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текущего узла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Заголовок 3"/>
          <p:cNvSpPr/>
          <p:nvPr/>
        </p:nvSpPr>
        <p:spPr>
          <a:xfrm>
            <a:off x="1187280" y="71280"/>
            <a:ext cx="77724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пользования директив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одзаголовок 4"/>
          <p:cNvSpPr/>
          <p:nvPr/>
        </p:nvSpPr>
        <p:spPr>
          <a:xfrm>
            <a:off x="995400" y="1079640"/>
            <a:ext cx="828036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ain(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ruct node roo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// 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формирование дер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#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mp parall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#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mp m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33cc"/>
                </a:solidFill>
                <a:latin typeface="Arial"/>
              </a:rPr>
              <a:t>#</a:t>
            </a:r>
            <a:r>
              <a:rPr b="0" i="1" lang="en-US" sz="2200" spc="-1" strike="noStrike">
                <a:solidFill>
                  <a:srgbClr val="0033cc"/>
                </a:solidFill>
                <a:latin typeface="Arial"/>
              </a:rPr>
              <a:t>pragm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omp task firstprivate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unt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raverse(root); 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// запуск обхода дерева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// обработка результатов обхода дер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Заголовок 3"/>
          <p:cNvSpPr/>
          <p:nvPr/>
        </p:nvSpPr>
        <p:spPr>
          <a:xfrm>
            <a:off x="1187280" y="71280"/>
            <a:ext cx="77724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Директивы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askwait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taskyel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одзаголовок 4"/>
          <p:cNvSpPr/>
          <p:nvPr/>
        </p:nvSpPr>
        <p:spPr>
          <a:xfrm>
            <a:off x="995400" y="1197000"/>
            <a:ext cx="82566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#pragm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om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taskw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, выполнивший эту директиву, приостанавливается до тех пор, пока не будут завершены все ранее запущенные им независимые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как написано в примере, эта директива присутствует перед вызовом функци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гарантирует, что и левое и правое поддерево будут полностью обработаны до обработки корня (но последовательность «левое-правое» или «правое-левое» останется непредсказуе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#pragm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om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task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ива taskyield указывает, что текущая задача может быть приостановлена в пользу выполнения други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Заголовок 3"/>
          <p:cNvSpPr/>
          <p:nvPr/>
        </p:nvSpPr>
        <p:spPr>
          <a:xfrm>
            <a:off x="1187280" y="71280"/>
            <a:ext cx="77724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па директив синхр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дзаголовок 4"/>
          <p:cNvSpPr/>
          <p:nvPr/>
        </p:nvSpPr>
        <p:spPr>
          <a:xfrm>
            <a:off x="1042920" y="1125360"/>
            <a:ext cx="8101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хронизация работы потоков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nM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ет выполняться и явно и нея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явная синхронизация выполняется в конце любой параллельной области при условии, что в момент создания этой области не была указана опция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wa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некоторых случаях программисту может потребоваться явно указать необходимость остановки всех или некоторых потоков программы вплоть до момента наступления ожидаемого со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рьерная синхр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ый распространенный способ синхронизации в OpenMP – барье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#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prag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mp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Заголовок 3"/>
          <p:cNvSpPr/>
          <p:nvPr/>
        </p:nvSpPr>
        <p:spPr>
          <a:xfrm>
            <a:off x="1187280" y="71280"/>
            <a:ext cx="777240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Arial"/>
              </a:rPr>
              <a:t>Директива 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atomic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одзаголовок 4"/>
          <p:cNvSpPr/>
          <p:nvPr/>
        </p:nvSpPr>
        <p:spPr>
          <a:xfrm>
            <a:off x="1042920" y="981000"/>
            <a:ext cx="8101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#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prag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mp 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ачестве оператора может быть написано присваивание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p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 -= exp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оператор модификации переменной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+id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.е. как в префиксной, так и в постфиксной фор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томарность распространяется ТОЛЬКО на три шага изменения значения переменн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ение-модификация-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числение значения выраж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ет выполняться разными потоками одноврем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Заголовок 3"/>
          <p:cNvSpPr/>
          <p:nvPr/>
        </p:nvSpPr>
        <p:spPr>
          <a:xfrm>
            <a:off x="1187280" y="7128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ические с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одзаголовок 4"/>
          <p:cNvSpPr/>
          <p:nvPr/>
        </p:nvSpPr>
        <p:spPr>
          <a:xfrm>
            <a:off x="1042920" y="785880"/>
            <a:ext cx="810108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нтакси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#pragma 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omp critical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[(&lt;имя_критической_секции&gt;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й блок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каждый момент времени в одной критической секции может находиться не более одного пото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сли критическая секция уже выполняется каким-либо потоком, то все другие потоки, дошедшие до выполнения этой директивы для секции с данным именем, будут заблокированы, пока вошедший в секцию поток не закончит выполнение структурного блока. Как только этот поток выйдет из критической секции, один из ожидающих потоков войдет в неё. Если входа в критическую секцию ожидало несколько потоков, то выбирается один из них (неважно, как). Остальные будут по-прежнему заблокиров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се неименованные секции рассматриваются как одна, даже если они находятся в разных параллельных регион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очно так же, все критические секции, имеющие одно и тоже имя, рассматриваются как одна секция, даже если они находятся в разных параллельных регион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бочные входы и выходы из критической секции (ее структурного блока) запреще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4:50:28Z</dcterms:created>
  <dc:creator>Lector</dc:creator>
  <dc:description/>
  <dc:language>en-US</dc:language>
  <cp:lastModifiedBy>Малявко А.А.</cp:lastModifiedBy>
  <dcterms:modified xsi:type="dcterms:W3CDTF">2023-10-23T12:21:03Z</dcterms:modified>
  <cp:revision>139</cp:revision>
  <dc:subject/>
  <dc:title>Параллельное программирование</dc:title>
</cp:coreProperties>
</file>